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E20-959A-40CD-B1BC-1E8BB2D8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5D76-FA73-4C6F-B766-B7B39225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B3D-3060-4B1B-A990-2D7408A2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55A-B2E8-4436-89EB-D7A31922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1EF-AF0C-4DE6-ADC2-5C1C9A3F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F20F-5FFC-475C-84E9-8E6030F5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AD3C-CDFB-43FA-A599-F31C9E5C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170E-77E7-4E05-BD5C-BC2787BE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FF4-1D65-4263-B4C4-FC0B88EE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2AC2-CB9B-46FD-BF66-0D64D18C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52F-2BD9-4BE6-BAB0-07CB4B69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DDE5-EB9C-4B9F-888F-D7A22289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043C-B33E-412D-A606-5895585E148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Top-Down Par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14800" y="6019920"/>
            <a:ext cx="990720" cy="685800"/>
            <a:chOff x="4114800" y="6019920"/>
            <a:chExt cx="990720" cy="685800"/>
          </a:xfrm>
        </p:grpSpPr>
        <p:sp>
          <p:nvSpPr>
            <p:cNvPr id="418" name=""/>
            <p:cNvSpPr/>
            <p:nvPr/>
          </p:nvSpPr>
          <p:spPr>
            <a:xfrm>
              <a:off x="4114800" y="6019920"/>
              <a:ext cx="99072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640080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7800" y="6019920"/>
            <a:ext cx="914400" cy="685800"/>
            <a:chOff x="5257800" y="6019920"/>
            <a:chExt cx="914400" cy="685800"/>
          </a:xfrm>
        </p:grpSpPr>
        <p:sp>
          <p:nvSpPr>
            <p:cNvPr id="421" name=""/>
            <p:cNvSpPr/>
            <p:nvPr/>
          </p:nvSpPr>
          <p:spPr>
            <a:xfrm>
              <a:off x="5257800" y="6019920"/>
              <a:ext cx="9144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640080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6019920"/>
            <a:ext cx="685800" cy="685800"/>
            <a:chOff x="6324480" y="6019920"/>
            <a:chExt cx="685800" cy="685800"/>
          </a:xfrm>
        </p:grpSpPr>
        <p:sp>
          <p:nvSpPr>
            <p:cNvPr id="424" name=""/>
            <p:cNvSpPr/>
            <p:nvPr/>
          </p:nvSpPr>
          <p:spPr>
            <a:xfrm>
              <a:off x="6324480" y="6019920"/>
              <a:ext cx="6858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6400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62920" y="6019920"/>
            <a:ext cx="304560" cy="685800"/>
            <a:chOff x="7162920" y="6019920"/>
            <a:chExt cx="304560" cy="685800"/>
          </a:xfrm>
        </p:grpSpPr>
        <p:sp>
          <p:nvSpPr>
            <p:cNvPr id="427" name=""/>
            <p:cNvSpPr/>
            <p:nvPr/>
          </p:nvSpPr>
          <p:spPr>
            <a:xfrm>
              <a:off x="7162920" y="6019920"/>
              <a:ext cx="30456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8880" y="6400800"/>
              <a:ext cx="152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0120" y="6019920"/>
            <a:ext cx="838080" cy="685800"/>
            <a:chOff x="7620120" y="6019920"/>
            <a:chExt cx="838080" cy="685800"/>
          </a:xfrm>
        </p:grpSpPr>
        <p:sp>
          <p:nvSpPr>
            <p:cNvPr id="430" name=""/>
            <p:cNvSpPr/>
            <p:nvPr/>
          </p:nvSpPr>
          <p:spPr>
            <a:xfrm>
              <a:off x="7620120" y="6019920"/>
              <a:ext cx="8380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6080" y="640080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5181480"/>
            <a:ext cx="3352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143000"/>
            <a:ext cx="45720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143000"/>
            <a:ext cx="47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14800" y="4495680"/>
            <a:ext cx="3581280" cy="1602720"/>
            <a:chOff x="4114800" y="4495680"/>
            <a:chExt cx="3581280" cy="1602720"/>
          </a:xfrm>
        </p:grpSpPr>
        <p:sp>
          <p:nvSpPr>
            <p:cNvPr id="438" name=""/>
            <p:cNvSpPr/>
            <p:nvPr/>
          </p:nvSpPr>
          <p:spPr>
            <a:xfrm>
              <a:off x="6095880" y="4572000"/>
              <a:ext cx="381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4572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56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4572000"/>
              <a:ext cx="15238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4952880"/>
            <a:ext cx="3504960" cy="1145520"/>
            <a:chOff x="5334120" y="4952880"/>
            <a:chExt cx="3504960" cy="1145520"/>
          </a:xfrm>
        </p:grpSpPr>
        <p:sp>
          <p:nvSpPr>
            <p:cNvPr id="444" name=""/>
            <p:cNvSpPr/>
            <p:nvPr/>
          </p:nvSpPr>
          <p:spPr>
            <a:xfrm>
              <a:off x="69343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952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257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77120" y="49528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4952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857640" y="495288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48520" y="5486400"/>
            <a:ext cx="990360" cy="612000"/>
            <a:chOff x="6248520" y="5486400"/>
            <a:chExt cx="990360" cy="612000"/>
          </a:xfrm>
        </p:grpSpPr>
        <p:sp>
          <p:nvSpPr>
            <p:cNvPr id="452" name=""/>
            <p:cNvSpPr/>
            <p:nvPr/>
          </p:nvSpPr>
          <p:spPr>
            <a:xfrm>
              <a:off x="62485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940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96080" y="5486400"/>
            <a:ext cx="1067040" cy="612000"/>
            <a:chOff x="7696080" y="5486400"/>
            <a:chExt cx="1067040" cy="612000"/>
          </a:xfrm>
        </p:grpSpPr>
        <p:sp>
          <p:nvSpPr>
            <p:cNvPr id="456" name=""/>
            <p:cNvSpPr/>
            <p:nvPr/>
          </p:nvSpPr>
          <p:spPr>
            <a:xfrm>
              <a:off x="769608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181480" y="5257800"/>
            <a:ext cx="2210040" cy="840600"/>
            <a:chOff x="5181480" y="5257800"/>
            <a:chExt cx="2210040" cy="840600"/>
          </a:xfrm>
        </p:grpSpPr>
        <p:sp>
          <p:nvSpPr>
            <p:cNvPr id="460" name=""/>
            <p:cNvSpPr/>
            <p:nvPr/>
          </p:nvSpPr>
          <p:spPr>
            <a:xfrm>
              <a:off x="6019920" y="5334120"/>
              <a:ext cx="2286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5257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5638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7146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09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in write 25;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5486400"/>
            <a:ext cx="2590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510552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7339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27432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14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74320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2514600"/>
            <a:ext cx="7772400" cy="1600200"/>
            <a:chOff x="685800" y="2514600"/>
            <a:chExt cx="7772400" cy="1600200"/>
          </a:xfrm>
        </p:grpSpPr>
        <p:sp>
          <p:nvSpPr>
            <p:cNvPr id="479" name=""/>
            <p:cNvSpPr/>
            <p:nvPr/>
          </p:nvSpPr>
          <p:spPr>
            <a:xfrm>
              <a:off x="20574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09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42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7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915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46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85800" y="2819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27432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276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971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37339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438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eg  end   rd   wr    id   int     ,      (       )      ;     :=   ad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L Grammars: Useful Transform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FG are stronger that L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1752480"/>
            <a:ext cx="419076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3276720"/>
            <a:ext cx="3429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F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8954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1981080"/>
            <a:ext cx="22860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276720"/>
            <a:ext cx="38862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 gramm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12372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191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FGs can be converted to equivalent LL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5720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sic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597204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ru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he form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eft recursive 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37720" y="3886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300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5812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96252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90920" y="38862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3962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396252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09720" y="35053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6748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3520" y="4572000"/>
            <a:ext cx="3429000" cy="1547280"/>
            <a:chOff x="533520" y="4572000"/>
            <a:chExt cx="3429000" cy="1547280"/>
          </a:xfrm>
        </p:grpSpPr>
        <p:sp>
          <p:nvSpPr>
            <p:cNvPr id="553" name=""/>
            <p:cNvSpPr/>
            <p:nvPr/>
          </p:nvSpPr>
          <p:spPr>
            <a:xfrm>
              <a:off x="533520" y="4572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520" y="5257800"/>
              <a:ext cx="3429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143000"/>
            <a:ext cx="78487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62920" y="350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86200" y="5105520"/>
            <a:ext cx="5257800" cy="1245240"/>
            <a:chOff x="3886200" y="5105520"/>
            <a:chExt cx="5257800" cy="1245240"/>
          </a:xfrm>
        </p:grpSpPr>
        <p:sp>
          <p:nvSpPr>
            <p:cNvPr id="562" name=""/>
            <p:cNvSpPr/>
            <p:nvPr/>
          </p:nvSpPr>
          <p:spPr>
            <a:xfrm>
              <a:off x="3886200" y="5257800"/>
              <a:ext cx="1143000" cy="838080"/>
            </a:xfrm>
            <a:prstGeom prst="rightArrow">
              <a:avLst>
                <a:gd name="adj1" fmla="val 50000"/>
                <a:gd name="adj2" fmla="val 3409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5105520"/>
              <a:ext cx="4191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2193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3124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7760" y="30481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3048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4191120"/>
            <a:ext cx="2133360" cy="2664000"/>
            <a:chOff x="533520" y="4191120"/>
            <a:chExt cx="2133360" cy="2664000"/>
          </a:xfrm>
        </p:grpSpPr>
        <p:sp>
          <p:nvSpPr>
            <p:cNvPr id="581" name=""/>
            <p:cNvSpPr/>
            <p:nvPr/>
          </p:nvSpPr>
          <p:spPr>
            <a:xfrm>
              <a:off x="5335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4622760"/>
              <a:ext cx="20574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33720" y="35812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7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2767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42840" y="32767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048120"/>
            <a:ext cx="759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3733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5880" y="32767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867280" y="30477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24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10280" y="34290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391160" y="3657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7086240" y="34290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467120" y="3657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2640" y="3733920"/>
            <a:ext cx="3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9796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133720" y="4724280"/>
            <a:ext cx="6629400" cy="2134080"/>
            <a:chOff x="2133720" y="4724280"/>
            <a:chExt cx="6629400" cy="2134080"/>
          </a:xfrm>
        </p:grpSpPr>
        <p:sp>
          <p:nvSpPr>
            <p:cNvPr id="613" name=""/>
            <p:cNvSpPr/>
            <p:nvPr/>
          </p:nvSpPr>
          <p:spPr>
            <a:xfrm>
              <a:off x="2133720" y="47242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4100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800600"/>
              <a:ext cx="4496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486400"/>
              <a:ext cx="42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9520" y="4800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520" y="54864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6051600"/>
              <a:ext cx="17528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mplification of this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1148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724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62720" y="45720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71840" y="45720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45720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809880"/>
            <a:ext cx="3200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52880" y="57150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71500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5440" y="3886200"/>
            <a:ext cx="3848040" cy="1828800"/>
          </a:xfrm>
          <a:custGeom>
            <a:avLst/>
            <a:gdLst/>
            <a:ahLst/>
            <a:rect l="l" t="t" r="r" b="b"/>
            <a:pathLst>
              <a:path w="2424" h="1152">
                <a:moveTo>
                  <a:pt x="1080" y="0"/>
                </a:moveTo>
                <a:lnTo>
                  <a:pt x="0" y="1152"/>
                </a:lnTo>
                <a:lnTo>
                  <a:pt x="704" y="1152"/>
                </a:lnTo>
                <a:lnTo>
                  <a:pt x="848" y="888"/>
                </a:lnTo>
                <a:lnTo>
                  <a:pt x="848" y="568"/>
                </a:lnTo>
                <a:lnTo>
                  <a:pt x="1416" y="424"/>
                </a:lnTo>
                <a:lnTo>
                  <a:pt x="1416" y="144"/>
                </a:lnTo>
                <a:lnTo>
                  <a:pt x="2424" y="144"/>
                </a:lnTo>
                <a:lnTo>
                  <a:pt x="1360" y="0"/>
                </a:lnTo>
                <a:lnTo>
                  <a:pt x="108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4290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114800"/>
            <a:ext cx="11430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4648320"/>
            <a:ext cx="10666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11960" y="4648320"/>
            <a:ext cx="2133360" cy="1358640"/>
          </a:xfrm>
          <a:custGeom>
            <a:avLst/>
            <a:gdLst/>
            <a:ahLst/>
            <a:rect l="l" t="t" r="r" b="b"/>
            <a:pathLst>
              <a:path w="1344" h="856">
                <a:moveTo>
                  <a:pt x="1032" y="0"/>
                </a:moveTo>
                <a:cubicBezTo>
                  <a:pt x="1075" y="59"/>
                  <a:pt x="1280" y="233"/>
                  <a:pt x="1296" y="360"/>
                </a:cubicBezTo>
                <a:cubicBezTo>
                  <a:pt x="1312" y="487"/>
                  <a:pt x="1344" y="677"/>
                  <a:pt x="1128" y="760"/>
                </a:cubicBezTo>
                <a:cubicBezTo>
                  <a:pt x="912" y="843"/>
                  <a:pt x="235" y="836"/>
                  <a:pt x="0" y="856"/>
                </a:cubicBezTo>
              </a:path>
            </a:pathLst>
          </a:custGeom>
          <a:noFill/>
          <a:ln w="10152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1430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of the left recursion introdu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s often make the language specification cl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at every input string of tokens ends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ts a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d mark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32767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 problem with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ru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9920" y="5257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410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448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8006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be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must define other se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rammar for Arithmetical Express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143000"/>
            <a:ext cx="77724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510552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*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057400"/>
            <a:ext cx="7788240" cy="14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f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, whe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143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that include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erive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mpty str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 otherwise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43200" y="3581280"/>
            <a:ext cx="2819520" cy="581400"/>
            <a:chOff x="2743200" y="3581280"/>
            <a:chExt cx="2819520" cy="581400"/>
          </a:xfrm>
        </p:grpSpPr>
        <p:sp>
          <p:nvSpPr>
            <p:cNvPr id="681" name=""/>
            <p:cNvSpPr/>
            <p:nvPr/>
          </p:nvSpPr>
          <p:spPr>
            <a:xfrm>
              <a:off x="2743200" y="3581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292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1120" y="35812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40920" y="5181480"/>
            <a:ext cx="3149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10040" y="5740560"/>
            <a:ext cx="3352680" cy="885960"/>
            <a:chOff x="3110040" y="5740560"/>
            <a:chExt cx="3352680" cy="885960"/>
          </a:xfrm>
        </p:grpSpPr>
        <p:sp>
          <p:nvSpPr>
            <p:cNvPr id="691" name=""/>
            <p:cNvSpPr/>
            <p:nvPr/>
          </p:nvSpPr>
          <p:spPr>
            <a:xfrm>
              <a:off x="3110040" y="6045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81280" y="5740560"/>
              <a:ext cx="42192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581280" y="4114800"/>
            <a:ext cx="648000" cy="733680"/>
            <a:chOff x="3581280" y="4114800"/>
            <a:chExt cx="648000" cy="733680"/>
          </a:xfrm>
        </p:grpSpPr>
        <p:sp>
          <p:nvSpPr>
            <p:cNvPr id="694" name=""/>
            <p:cNvSpPr/>
            <p:nvPr/>
          </p:nvSpPr>
          <p:spPr>
            <a:xfrm>
              <a:off x="35812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191120" y="4114800"/>
            <a:ext cx="647640" cy="733680"/>
            <a:chOff x="4191120" y="4114800"/>
            <a:chExt cx="647640" cy="733680"/>
          </a:xfrm>
        </p:grpSpPr>
        <p:sp>
          <p:nvSpPr>
            <p:cNvPr id="697" name=""/>
            <p:cNvSpPr/>
            <p:nvPr/>
          </p:nvSpPr>
          <p:spPr>
            <a:xfrm>
              <a:off x="4343400" y="4114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4267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52880" y="4114800"/>
            <a:ext cx="648000" cy="733680"/>
            <a:chOff x="4952880" y="4114800"/>
            <a:chExt cx="648000" cy="733680"/>
          </a:xfrm>
        </p:grpSpPr>
        <p:sp>
          <p:nvSpPr>
            <p:cNvPr id="700" name=""/>
            <p:cNvSpPr/>
            <p:nvPr/>
          </p:nvSpPr>
          <p:spPr>
            <a:xfrm>
              <a:off x="51055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6483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4724280"/>
            <a:ext cx="1676160" cy="581400"/>
            <a:chOff x="3733920" y="4724280"/>
            <a:chExt cx="1676160" cy="581400"/>
          </a:xfrm>
        </p:grpSpPr>
        <p:sp>
          <p:nvSpPr>
            <p:cNvPr id="704" name=""/>
            <p:cNvSpPr/>
            <p:nvPr/>
          </p:nvSpPr>
          <p:spPr>
            <a:xfrm rot="5400000">
              <a:off x="4495680" y="3962520"/>
              <a:ext cx="152640" cy="1676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2133720"/>
            <a:ext cx="83818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77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5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1880" y="4178160"/>
            <a:ext cx="1739880" cy="1727280"/>
          </a:xfrm>
          <a:custGeom>
            <a:avLst/>
            <a:gdLst/>
            <a:ahLst/>
            <a:rect l="l" t="t" r="r" b="b"/>
            <a:pathLst>
              <a:path w="1096" h="1088">
                <a:moveTo>
                  <a:pt x="352" y="1088"/>
                </a:moveTo>
                <a:cubicBezTo>
                  <a:pt x="461" y="1061"/>
                  <a:pt x="904" y="1073"/>
                  <a:pt x="1000" y="932"/>
                </a:cubicBezTo>
                <a:cubicBezTo>
                  <a:pt x="1096" y="791"/>
                  <a:pt x="1095" y="395"/>
                  <a:pt x="928" y="240"/>
                </a:cubicBezTo>
                <a:cubicBezTo>
                  <a:pt x="761" y="85"/>
                  <a:pt x="193" y="50"/>
                  <a:pt x="0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191120" y="3733920"/>
            <a:ext cx="2666880" cy="489960"/>
            <a:chOff x="4191120" y="3733920"/>
            <a:chExt cx="2666880" cy="489960"/>
          </a:xfrm>
        </p:grpSpPr>
        <p:sp>
          <p:nvSpPr>
            <p:cNvPr id="718" name=""/>
            <p:cNvSpPr/>
            <p:nvPr/>
          </p:nvSpPr>
          <p:spPr>
            <a:xfrm>
              <a:off x="4191120" y="3962160"/>
              <a:ext cx="4572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0" y="373392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581280" y="5029200"/>
            <a:ext cx="2019240" cy="657360"/>
            <a:chOff x="3581280" y="5029200"/>
            <a:chExt cx="201924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5029200"/>
              <a:ext cx="647640" cy="657360"/>
              <a:chOff x="3581280" y="5029200"/>
              <a:chExt cx="647640" cy="65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37335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812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190760" y="5029200"/>
              <a:ext cx="647640" cy="657360"/>
              <a:chOff x="4190760" y="5029200"/>
              <a:chExt cx="647640" cy="65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434304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076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952880" y="5029200"/>
              <a:ext cx="647640" cy="657360"/>
              <a:chOff x="4952880" y="5029200"/>
              <a:chExt cx="647640" cy="657360"/>
            </a:xfrm>
          </p:grpSpPr>
          <p:sp>
            <p:nvSpPr>
              <p:cNvPr id="728" name=""/>
              <p:cNvSpPr/>
              <p:nvPr/>
            </p:nvSpPr>
            <p:spPr>
              <a:xfrm>
                <a:off x="51051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528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64796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733920" y="5562720"/>
            <a:ext cx="1676160" cy="581400"/>
            <a:chOff x="3733920" y="5562720"/>
            <a:chExt cx="1676160" cy="581400"/>
          </a:xfrm>
        </p:grpSpPr>
        <p:sp>
          <p:nvSpPr>
            <p:cNvPr id="732" name=""/>
            <p:cNvSpPr/>
            <p:nvPr/>
          </p:nvSpPr>
          <p:spPr>
            <a:xfrm rot="5400000">
              <a:off x="4495680" y="4800600"/>
              <a:ext cx="152280" cy="1676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67080" y="55627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9480" y="2590920"/>
            <a:ext cx="7772400" cy="2514600"/>
            <a:chOff x="609480" y="2590920"/>
            <a:chExt cx="7772400" cy="2514600"/>
          </a:xfrm>
        </p:grpSpPr>
        <p:sp>
          <p:nvSpPr>
            <p:cNvPr id="735" name=""/>
            <p:cNvSpPr/>
            <p:nvPr/>
          </p:nvSpPr>
          <p:spPr>
            <a:xfrm>
              <a:off x="609480" y="2590920"/>
              <a:ext cx="7772400" cy="14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 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… 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581280" y="3809880"/>
              <a:ext cx="1981080" cy="1295640"/>
              <a:chOff x="3581280" y="3809880"/>
              <a:chExt cx="1981080" cy="1295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6572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560" y="38098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3356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812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9076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885840" y="4297320"/>
                <a:ext cx="763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429732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47960" y="4525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288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528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160" y="429732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81680" y="1219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2438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24382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1480" y="4038480"/>
            <a:ext cx="5056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106668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Parsing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2286000"/>
            <a:ext cx="3124080" cy="297180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75248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3238560"/>
            <a:ext cx="53316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8160" y="52578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525780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168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8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08800">
            <a:off x="2361960" y="3733560"/>
            <a:ext cx="380880" cy="1676160"/>
          </a:xfrm>
          <a:prstGeom prst="downArrow">
            <a:avLst>
              <a:gd name="adj1" fmla="val 50000"/>
              <a:gd name="adj2" fmla="val 110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34340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95680" y="1143000"/>
            <a:ext cx="3886200" cy="2781360"/>
            <a:chOff x="4495680" y="1143000"/>
            <a:chExt cx="3886200" cy="2781360"/>
          </a:xfrm>
        </p:grpSpPr>
        <p:sp>
          <p:nvSpPr>
            <p:cNvPr id="62" name=""/>
            <p:cNvSpPr/>
            <p:nvPr/>
          </p:nvSpPr>
          <p:spPr>
            <a:xfrm>
              <a:off x="449568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ic ide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1676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205740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416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540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9718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2540160"/>
              <a:ext cx="14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2004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54016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971800"/>
              <a:ext cx="289548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2540160"/>
              <a:ext cx="28954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295920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13716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3429000"/>
            <a:ext cx="3353040" cy="1419480"/>
            <a:chOff x="4952880" y="3429000"/>
            <a:chExt cx="3353040" cy="1419480"/>
          </a:xfrm>
        </p:grpSpPr>
        <p:sp>
          <p:nvSpPr>
            <p:cNvPr id="80" name=""/>
            <p:cNvSpPr/>
            <p:nvPr/>
          </p:nvSpPr>
          <p:spPr>
            <a:xfrm>
              <a:off x="4952880" y="4267080"/>
              <a:ext cx="335304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429000"/>
              <a:ext cx="409320" cy="914400"/>
            </a:xfrm>
            <a:prstGeom prst="downArrow">
              <a:avLst>
                <a:gd name="adj1" fmla="val 50000"/>
                <a:gd name="adj2" fmla="val 5584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5486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5105520"/>
            <a:ext cx="441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ld you construct this table for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F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520" y="2133720"/>
            <a:ext cx="8381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2590920"/>
            <a:ext cx="5867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6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066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icializ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038120" y="6095880"/>
            <a:ext cx="1904760" cy="581400"/>
            <a:chOff x="4038120" y="6095880"/>
            <a:chExt cx="1904760" cy="581400"/>
          </a:xfrm>
        </p:grpSpPr>
        <p:sp>
          <p:nvSpPr>
            <p:cNvPr id="772" name=""/>
            <p:cNvSpPr/>
            <p:nvPr/>
          </p:nvSpPr>
          <p:spPr>
            <a:xfrm rot="5400000">
              <a:off x="4914000" y="521964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7960" y="6095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53080" y="5837400"/>
            <a:ext cx="2438280" cy="647280"/>
            <a:chOff x="6553080" y="5837400"/>
            <a:chExt cx="2438280" cy="647280"/>
          </a:xfrm>
        </p:grpSpPr>
        <p:sp>
          <p:nvSpPr>
            <p:cNvPr id="775" name=""/>
            <p:cNvSpPr/>
            <p:nvPr/>
          </p:nvSpPr>
          <p:spPr>
            <a:xfrm>
              <a:off x="6857640" y="58374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53080" y="61419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5867280" y="4694400"/>
            <a:ext cx="2165400" cy="127764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4191120"/>
            <a:ext cx="2819160" cy="581400"/>
            <a:chOff x="5867280" y="4191120"/>
            <a:chExt cx="2819160" cy="581400"/>
          </a:xfrm>
        </p:grpSpPr>
        <p:sp>
          <p:nvSpPr>
            <p:cNvPr id="779" name=""/>
            <p:cNvSpPr/>
            <p:nvPr/>
          </p:nvSpPr>
          <p:spPr>
            <a:xfrm>
              <a:off x="5867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3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62520" y="5562720"/>
            <a:ext cx="2095560" cy="657360"/>
            <a:chOff x="3962520" y="5562720"/>
            <a:chExt cx="2095560" cy="657360"/>
          </a:xfrm>
        </p:grpSpPr>
        <p:grpSp>
          <p:nvGrpSpPr>
            <p:cNvPr id="782" name=""/>
            <p:cNvGrpSpPr/>
            <p:nvPr/>
          </p:nvGrpSpPr>
          <p:grpSpPr>
            <a:xfrm>
              <a:off x="3962520" y="5562720"/>
              <a:ext cx="647640" cy="657360"/>
              <a:chOff x="3962520" y="5562720"/>
              <a:chExt cx="647640" cy="657360"/>
            </a:xfrm>
          </p:grpSpPr>
          <p:sp>
            <p:nvSpPr>
              <p:cNvPr id="783" name=""/>
              <p:cNvSpPr/>
              <p:nvPr/>
            </p:nvSpPr>
            <p:spPr>
              <a:xfrm>
                <a:off x="411480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6252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572000" y="5562720"/>
              <a:ext cx="648000" cy="657360"/>
              <a:chOff x="4572000" y="5562720"/>
              <a:chExt cx="648000" cy="657360"/>
            </a:xfrm>
          </p:grpSpPr>
          <p:sp>
            <p:nvSpPr>
              <p:cNvPr id="786" name=""/>
              <p:cNvSpPr/>
              <p:nvPr/>
            </p:nvSpPr>
            <p:spPr>
              <a:xfrm>
                <a:off x="4724640" y="5562720"/>
                <a:ext cx="30456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72000" y="5638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440" y="5562720"/>
              <a:ext cx="647640" cy="657360"/>
              <a:chOff x="5410440" y="5562720"/>
              <a:chExt cx="647640" cy="657360"/>
            </a:xfrm>
          </p:grpSpPr>
          <p:sp>
            <p:nvSpPr>
              <p:cNvPr id="789" name=""/>
              <p:cNvSpPr/>
              <p:nvPr/>
            </p:nvSpPr>
            <p:spPr>
              <a:xfrm>
                <a:off x="556272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02920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62520" y="4191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80880" y="3429000"/>
            <a:ext cx="8077320" cy="2179800"/>
            <a:chOff x="380880" y="3429000"/>
            <a:chExt cx="8077320" cy="2179800"/>
          </a:xfrm>
        </p:grpSpPr>
        <p:sp>
          <p:nvSpPr>
            <p:cNvPr id="794" name=""/>
            <p:cNvSpPr/>
            <p:nvPr/>
          </p:nvSpPr>
          <p:spPr>
            <a:xfrm>
              <a:off x="380880" y="3429000"/>
              <a:ext cx="80773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b) 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-1, where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&lt;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  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962520" y="4343400"/>
              <a:ext cx="3504600" cy="1265400"/>
              <a:chOff x="3962520" y="4343400"/>
              <a:chExt cx="3504600" cy="1265400"/>
            </a:xfrm>
          </p:grpSpPr>
          <p:sp>
            <p:nvSpPr>
              <p:cNvPr id="796" name=""/>
              <p:cNvSpPr/>
              <p:nvPr/>
            </p:nvSpPr>
            <p:spPr>
              <a:xfrm>
                <a:off x="5410080" y="434340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848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47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10080" y="5105520"/>
                <a:ext cx="60912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10080" y="43434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6252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1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3760" y="50292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266720" y="4800600"/>
                <a:ext cx="137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876560" y="4800600"/>
                <a:ext cx="7617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38680" y="4800600"/>
                <a:ext cx="75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884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33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57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71840" y="510552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9588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5308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8680" y="4800600"/>
                <a:ext cx="761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38680" y="4800600"/>
                <a:ext cx="152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038480" y="4160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019920" y="5532480"/>
            <a:ext cx="990000" cy="1328040"/>
            <a:chOff x="6019920" y="5532480"/>
            <a:chExt cx="990000" cy="1328040"/>
          </a:xfrm>
        </p:grpSpPr>
        <p:sp>
          <p:nvSpPr>
            <p:cNvPr id="818" name=""/>
            <p:cNvSpPr/>
            <p:nvPr/>
          </p:nvSpPr>
          <p:spPr>
            <a:xfrm>
              <a:off x="6400440" y="591336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19920" y="5532480"/>
              <a:ext cx="761760" cy="838080"/>
              <a:chOff x="6019920" y="5532480"/>
              <a:chExt cx="761760" cy="83808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6019920" y="553248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19920" y="591336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143000" y="5821200"/>
            <a:ext cx="2438280" cy="647280"/>
            <a:chOff x="1143000" y="5821200"/>
            <a:chExt cx="2438280" cy="647280"/>
          </a:xfrm>
        </p:grpSpPr>
        <p:sp>
          <p:nvSpPr>
            <p:cNvPr id="824" name=""/>
            <p:cNvSpPr/>
            <p:nvPr/>
          </p:nvSpPr>
          <p:spPr>
            <a:xfrm>
              <a:off x="1447560" y="58212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61257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295280" y="4602240"/>
            <a:ext cx="2165400" cy="127800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295280" y="4191120"/>
            <a:ext cx="2819160" cy="581400"/>
            <a:chOff x="1295280" y="4191120"/>
            <a:chExt cx="2819160" cy="581400"/>
          </a:xfrm>
        </p:grpSpPr>
        <p:sp>
          <p:nvSpPr>
            <p:cNvPr id="828" name=""/>
            <p:cNvSpPr/>
            <p:nvPr/>
          </p:nvSpPr>
          <p:spPr>
            <a:xfrm>
              <a:off x="1295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33520" y="5486400"/>
            <a:ext cx="990000" cy="1328040"/>
            <a:chOff x="533520" y="5486400"/>
            <a:chExt cx="990000" cy="1328040"/>
          </a:xfrm>
        </p:grpSpPr>
        <p:sp>
          <p:nvSpPr>
            <p:cNvPr id="831" name=""/>
            <p:cNvSpPr/>
            <p:nvPr/>
          </p:nvSpPr>
          <p:spPr>
            <a:xfrm>
              <a:off x="914040" y="58672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33520" y="5486400"/>
              <a:ext cx="761760" cy="838080"/>
              <a:chOff x="533520" y="5486400"/>
              <a:chExt cx="761760" cy="83808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3520" y="548640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3520" y="586728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52280" y="3048120"/>
            <a:ext cx="8305920" cy="2514600"/>
            <a:chOff x="152280" y="3048120"/>
            <a:chExt cx="8305920" cy="2514600"/>
          </a:xfrm>
        </p:grpSpPr>
        <p:sp>
          <p:nvSpPr>
            <p:cNvPr id="836" name=""/>
            <p:cNvSpPr/>
            <p:nvPr/>
          </p:nvSpPr>
          <p:spPr>
            <a:xfrm>
              <a:off x="1522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09480" y="4267080"/>
              <a:ext cx="2057400" cy="1295640"/>
              <a:chOff x="609480" y="4267080"/>
              <a:chExt cx="2057400" cy="1295640"/>
            </a:xfrm>
          </p:grpSpPr>
          <p:sp>
            <p:nvSpPr>
              <p:cNvPr id="838" name=""/>
              <p:cNvSpPr/>
              <p:nvPr/>
            </p:nvSpPr>
            <p:spPr>
              <a:xfrm>
                <a:off x="838080" y="42670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080" y="4267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5800" y="505944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9480" y="498312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71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95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990360" y="47242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6680" y="472428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75248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33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57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6680" y="472428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380880" y="3048120"/>
              <a:ext cx="8077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a)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cs-CZ" sz="2600" spc="-1" strike="noStrike" baseline="-33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6668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666880"/>
            <a:ext cx="7848720" cy="916920"/>
            <a:chOff x="609480" y="2666880"/>
            <a:chExt cx="7848720" cy="916920"/>
          </a:xfrm>
        </p:grpSpPr>
        <p:sp>
          <p:nvSpPr>
            <p:cNvPr id="854" name=""/>
            <p:cNvSpPr/>
            <p:nvPr/>
          </p:nvSpPr>
          <p:spPr>
            <a:xfrm>
              <a:off x="609480" y="266688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" y="35812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09480" y="3581280"/>
            <a:ext cx="7848720" cy="642600"/>
            <a:chOff x="609480" y="3581280"/>
            <a:chExt cx="7848720" cy="642600"/>
          </a:xfrm>
        </p:grpSpPr>
        <p:sp>
          <p:nvSpPr>
            <p:cNvPr id="857" name=""/>
            <p:cNvSpPr/>
            <p:nvPr/>
          </p:nvSpPr>
          <p:spPr>
            <a:xfrm>
              <a:off x="685800" y="419076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480" y="3581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09480" y="4191120"/>
            <a:ext cx="7848720" cy="642600"/>
            <a:chOff x="609480" y="4191120"/>
            <a:chExt cx="7848720" cy="642600"/>
          </a:xfrm>
        </p:grpSpPr>
        <p:sp>
          <p:nvSpPr>
            <p:cNvPr id="860" name=""/>
            <p:cNvSpPr/>
            <p:nvPr/>
          </p:nvSpPr>
          <p:spPr>
            <a:xfrm>
              <a:off x="685800" y="48006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480" y="4191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9480" y="4800600"/>
            <a:ext cx="7848720" cy="685800"/>
            <a:chOff x="609480" y="4800600"/>
            <a:chExt cx="7848720" cy="685800"/>
          </a:xfrm>
        </p:grpSpPr>
        <p:sp>
          <p:nvSpPr>
            <p:cNvPr id="863" name=""/>
            <p:cNvSpPr/>
            <p:nvPr/>
          </p:nvSpPr>
          <p:spPr>
            <a:xfrm>
              <a:off x="685800" y="54864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480" y="480060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0948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1219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1066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12193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4800" y="6095880"/>
            <a:ext cx="48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2514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5146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0384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438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114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2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15000" y="41148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533520" y="1143000"/>
            <a:ext cx="8153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2362320"/>
            <a:ext cx="85345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y the following rule until nothing can be ad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0292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5257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828800" y="6278400"/>
            <a:ext cx="1371600" cy="581400"/>
            <a:chOff x="1828800" y="6278400"/>
            <a:chExt cx="1371600" cy="581400"/>
          </a:xfrm>
        </p:grpSpPr>
        <p:sp>
          <p:nvSpPr>
            <p:cNvPr id="903" name=""/>
            <p:cNvSpPr/>
            <p:nvPr/>
          </p:nvSpPr>
          <p:spPr>
            <a:xfrm rot="5400000">
              <a:off x="2438280" y="5715000"/>
              <a:ext cx="152640" cy="1371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114800" y="6095880"/>
            <a:ext cx="2590920" cy="647280"/>
            <a:chOff x="4114800" y="6095880"/>
            <a:chExt cx="2590920" cy="647280"/>
          </a:xfrm>
        </p:grpSpPr>
        <p:sp>
          <p:nvSpPr>
            <p:cNvPr id="906" name=""/>
            <p:cNvSpPr/>
            <p:nvPr/>
          </p:nvSpPr>
          <p:spPr>
            <a:xfrm>
              <a:off x="4572000" y="609588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64008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23880" y="5791320"/>
            <a:ext cx="1943280" cy="657360"/>
            <a:chOff x="1523880" y="5791320"/>
            <a:chExt cx="1943280" cy="657360"/>
          </a:xfrm>
        </p:grpSpPr>
        <p:sp>
          <p:nvSpPr>
            <p:cNvPr id="909" name=""/>
            <p:cNvSpPr/>
            <p:nvPr/>
          </p:nvSpPr>
          <p:spPr>
            <a:xfrm>
              <a:off x="16765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33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718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38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81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95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828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276720" y="5791320"/>
            <a:ext cx="990360" cy="1251720"/>
            <a:chOff x="3276720" y="5791320"/>
            <a:chExt cx="990360" cy="1251720"/>
          </a:xfrm>
        </p:grpSpPr>
        <p:sp>
          <p:nvSpPr>
            <p:cNvPr id="917" name=""/>
            <p:cNvSpPr/>
            <p:nvPr/>
          </p:nvSpPr>
          <p:spPr>
            <a:xfrm flipV="1">
              <a:off x="3276720" y="5791320"/>
              <a:ext cx="761760" cy="380880"/>
            </a:xfrm>
            <a:custGeom>
              <a:avLst/>
              <a:gdLst>
                <a:gd name="textAreaLeft" fmla="*/ 156960 w 761760"/>
                <a:gd name="textAreaRight" fmla="*/ 604800 w 761760"/>
                <a:gd name="textAreaTop" fmla="*/ 78480 h 380880"/>
                <a:gd name="textAreaBottom" fmla="*/ 302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958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6172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648320" y="5638680"/>
            <a:ext cx="1752480" cy="5796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48320" y="5181480"/>
            <a:ext cx="3886200" cy="653040"/>
            <a:chOff x="4648320" y="5181480"/>
            <a:chExt cx="3886200" cy="653040"/>
          </a:xfrm>
        </p:grpSpPr>
        <p:sp>
          <p:nvSpPr>
            <p:cNvPr id="922" name=""/>
            <p:cNvSpPr/>
            <p:nvPr/>
          </p:nvSpPr>
          <p:spPr>
            <a:xfrm>
              <a:off x="4648320" y="548640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81480" y="5181480"/>
              <a:ext cx="335304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5720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4648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8760" y="2286000"/>
            <a:ext cx="24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9112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E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5720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T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828800" y="495288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541008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F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28800" y="579132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791320"/>
            <a:ext cx="12189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6324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1143000"/>
            <a:ext cx="84582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5146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2514600"/>
            <a:ext cx="8381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2578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676840"/>
            <a:ext cx="1187280" cy="1074960"/>
          </a:xfrm>
          <a:custGeom>
            <a:avLst/>
            <a:gdLst/>
            <a:ahLst/>
            <a:rect l="l" t="t" r="r" b="b"/>
            <a:pathLst>
              <a:path w="796" h="677">
                <a:moveTo>
                  <a:pt x="0" y="624"/>
                </a:moveTo>
                <a:cubicBezTo>
                  <a:pt x="112" y="619"/>
                  <a:pt x="548" y="677"/>
                  <a:pt x="672" y="592"/>
                </a:cubicBezTo>
                <a:cubicBezTo>
                  <a:pt x="796" y="507"/>
                  <a:pt x="781" y="211"/>
                  <a:pt x="744" y="112"/>
                </a:cubicBezTo>
                <a:cubicBezTo>
                  <a:pt x="707" y="13"/>
                  <a:pt x="510" y="23"/>
                  <a:pt x="448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800600" y="5257800"/>
            <a:ext cx="4038480" cy="570960"/>
            <a:chOff x="4800600" y="5257800"/>
            <a:chExt cx="4038480" cy="570960"/>
          </a:xfrm>
        </p:grpSpPr>
        <p:sp>
          <p:nvSpPr>
            <p:cNvPr id="960" name=""/>
            <p:cNvSpPr/>
            <p:nvPr/>
          </p:nvSpPr>
          <p:spPr>
            <a:xfrm>
              <a:off x="4800600" y="5486400"/>
              <a:ext cx="685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10080" y="5257800"/>
              <a:ext cx="34290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48120" y="5791320"/>
            <a:ext cx="1866960" cy="657360"/>
            <a:chOff x="3048120" y="5791320"/>
            <a:chExt cx="1866960" cy="657360"/>
          </a:xfrm>
        </p:grpSpPr>
        <p:sp>
          <p:nvSpPr>
            <p:cNvPr id="963" name=""/>
            <p:cNvSpPr/>
            <p:nvPr/>
          </p:nvSpPr>
          <p:spPr>
            <a:xfrm>
              <a:off x="32004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19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481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053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6252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200040" y="6278400"/>
            <a:ext cx="1523880" cy="581400"/>
            <a:chOff x="3200040" y="6278400"/>
            <a:chExt cx="1523880" cy="581400"/>
          </a:xfrm>
        </p:grpSpPr>
        <p:sp>
          <p:nvSpPr>
            <p:cNvPr id="971" name=""/>
            <p:cNvSpPr/>
            <p:nvPr/>
          </p:nvSpPr>
          <p:spPr>
            <a:xfrm rot="5400000">
              <a:off x="3885480" y="5638680"/>
              <a:ext cx="152640" cy="1523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5760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8580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47242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040" y="2362320"/>
            <a:ext cx="19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480" y="4267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o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1981080"/>
            <a:ext cx="7772400" cy="16725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the s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{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{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1430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ol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ome right after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sentential form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7524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429000" y="4952880"/>
            <a:ext cx="1603440" cy="838440"/>
            <a:chOff x="3429000" y="4952880"/>
            <a:chExt cx="1603440" cy="838440"/>
          </a:xfrm>
        </p:grpSpPr>
        <p:sp>
          <p:nvSpPr>
            <p:cNvPr id="993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4952880"/>
              <a:ext cx="1603440" cy="38124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6200" y="53341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70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483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676520" y="3733920"/>
            <a:ext cx="2895480" cy="2057400"/>
            <a:chOff x="1676520" y="3733920"/>
            <a:chExt cx="2895480" cy="2057400"/>
          </a:xfrm>
        </p:grpSpPr>
        <p:sp>
          <p:nvSpPr>
            <p:cNvPr id="1001" name=""/>
            <p:cNvSpPr/>
            <p:nvPr/>
          </p:nvSpPr>
          <p:spPr>
            <a:xfrm>
              <a:off x="297180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1800" y="44956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37339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95480" y="4495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7652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740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82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29000" y="44956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9880" y="4495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4495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09880" y="4800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91120" y="4800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76520" y="4267080"/>
              <a:ext cx="2895480" cy="1067040"/>
            </a:xfrm>
            <a:custGeom>
              <a:avLst/>
              <a:gdLst/>
              <a:ahLst/>
              <a:rect l="l" t="t" r="r" b="b"/>
              <a:pathLst>
                <a:path w="1824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824" y="432"/>
                  </a:lnTo>
                  <a:lnTo>
                    <a:pt x="824" y="152"/>
                  </a:lnTo>
                  <a:lnTo>
                    <a:pt x="1192" y="152"/>
                  </a:lnTo>
                  <a:lnTo>
                    <a:pt x="1824" y="152"/>
                  </a:lnTo>
                  <a:lnTo>
                    <a:pt x="1126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27672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715000" y="3733920"/>
            <a:ext cx="1981080" cy="2057400"/>
            <a:chOff x="5715000" y="3733920"/>
            <a:chExt cx="1981080" cy="2057400"/>
          </a:xfrm>
        </p:grpSpPr>
        <p:sp>
          <p:nvSpPr>
            <p:cNvPr id="1018" name=""/>
            <p:cNvSpPr/>
            <p:nvPr/>
          </p:nvSpPr>
          <p:spPr>
            <a:xfrm>
              <a:off x="701028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62920" y="44197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43434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58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771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5000" y="4267080"/>
              <a:ext cx="1905120" cy="1067040"/>
            </a:xfrm>
            <a:custGeom>
              <a:avLst/>
              <a:gdLst/>
              <a:ahLst/>
              <a:rect l="l" t="t" r="r" b="b"/>
              <a:pathLst>
                <a:path w="1200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914" y="382"/>
                  </a:lnTo>
                  <a:lnTo>
                    <a:pt x="914" y="96"/>
                  </a:lnTo>
                  <a:lnTo>
                    <a:pt x="1200" y="96"/>
                  </a:lnTo>
                  <a:lnTo>
                    <a:pt x="1104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3733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4008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362320" y="6248520"/>
            <a:ext cx="2286000" cy="641160"/>
            <a:chOff x="2362320" y="6248520"/>
            <a:chExt cx="2286000" cy="641160"/>
          </a:xfrm>
        </p:grpSpPr>
        <p:sp>
          <p:nvSpPr>
            <p:cNvPr id="1030" name=""/>
            <p:cNvSpPr/>
            <p:nvPr/>
          </p:nvSpPr>
          <p:spPr>
            <a:xfrm>
              <a:off x="236232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323820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72200" y="6248520"/>
            <a:ext cx="2286000" cy="641160"/>
            <a:chOff x="6172200" y="6248520"/>
            <a:chExt cx="2286000" cy="641160"/>
          </a:xfrm>
        </p:grpSpPr>
        <p:sp>
          <p:nvSpPr>
            <p:cNvPr id="1033" name=""/>
            <p:cNvSpPr/>
            <p:nvPr/>
          </p:nvSpPr>
          <p:spPr>
            <a:xfrm>
              <a:off x="617220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$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704808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0" y="4876920"/>
            <a:ext cx="1600200" cy="1038600"/>
            <a:chOff x="6858000" y="4876920"/>
            <a:chExt cx="1600200" cy="1038600"/>
          </a:xfrm>
        </p:grpSpPr>
        <p:sp>
          <p:nvSpPr>
            <p:cNvPr id="1036" name=""/>
            <p:cNvSpPr/>
            <p:nvPr/>
          </p:nvSpPr>
          <p:spPr>
            <a:xfrm>
              <a:off x="77724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62920" y="533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01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580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20120" y="48769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533520" y="114300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2057400"/>
            <a:ext cx="83055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Symbo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Table-Based Selection of a Ru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3124080" cy="213372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21932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8862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08800">
            <a:off x="2203200" y="2741760"/>
            <a:ext cx="380880" cy="1218960"/>
          </a:xfrm>
          <a:prstGeom prst="down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4080" y="1752480"/>
            <a:ext cx="2743200" cy="1418040"/>
            <a:chOff x="3124080" y="1752480"/>
            <a:chExt cx="2743200" cy="1418040"/>
          </a:xfrm>
        </p:grpSpPr>
        <p:sp>
          <p:nvSpPr>
            <p:cNvPr id="98" name=""/>
            <p:cNvSpPr/>
            <p:nvPr/>
          </p:nvSpPr>
          <p:spPr>
            <a:xfrm>
              <a:off x="39625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190760" y="22860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7960" y="22860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1320" y="1752480"/>
            <a:ext cx="2743200" cy="1418040"/>
            <a:chOff x="5791320" y="1752480"/>
            <a:chExt cx="2743200" cy="1418040"/>
          </a:xfrm>
        </p:grpSpPr>
        <p:sp>
          <p:nvSpPr>
            <p:cNvPr id="112" name=""/>
            <p:cNvSpPr/>
            <p:nvPr/>
          </p:nvSpPr>
          <p:spPr>
            <a:xfrm>
              <a:off x="66294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8000" y="22860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15200" y="22860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419720"/>
            <a:ext cx="3886200" cy="2247840"/>
            <a:chOff x="533520" y="4419720"/>
            <a:chExt cx="3886200" cy="2247840"/>
          </a:xfrm>
        </p:grpSpPr>
        <p:sp>
          <p:nvSpPr>
            <p:cNvPr id="126" name=""/>
            <p:cNvSpPr/>
            <p:nvPr/>
          </p:nvSpPr>
          <p:spPr>
            <a:xfrm>
              <a:off x="53352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4800600"/>
              <a:ext cx="106704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532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61848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2833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57150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283360"/>
              <a:ext cx="1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59436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5283360"/>
              <a:ext cx="106704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5715000"/>
              <a:ext cx="289584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5283360"/>
              <a:ext cx="289584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702400"/>
              <a:ext cx="106704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67080" y="4952880"/>
            <a:ext cx="4724640" cy="1756800"/>
            <a:chOff x="4267080" y="4952880"/>
            <a:chExt cx="4724640" cy="1756800"/>
          </a:xfrm>
        </p:grpSpPr>
        <p:sp>
          <p:nvSpPr>
            <p:cNvPr id="142" name=""/>
            <p:cNvSpPr/>
            <p:nvPr/>
          </p:nvSpPr>
          <p:spPr>
            <a:xfrm>
              <a:off x="4267080" y="4952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6095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5409720"/>
            <a:ext cx="2514600" cy="914760"/>
            <a:chOff x="3505320" y="5409720"/>
            <a:chExt cx="2514600" cy="914760"/>
          </a:xfrm>
        </p:grpSpPr>
        <p:sp>
          <p:nvSpPr>
            <p:cNvPr id="145" name=""/>
            <p:cNvSpPr/>
            <p:nvPr/>
          </p:nvSpPr>
          <p:spPr>
            <a:xfrm flipV="1">
              <a:off x="5562720" y="540972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5562720"/>
              <a:ext cx="609840" cy="6094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6019920"/>
              <a:ext cx="45720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867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3124080"/>
            <a:ext cx="2438280" cy="1143000"/>
            <a:chOff x="3657600" y="3124080"/>
            <a:chExt cx="2438280" cy="1143000"/>
          </a:xfrm>
        </p:grpSpPr>
        <p:sp>
          <p:nvSpPr>
            <p:cNvPr id="151" name=""/>
            <p:cNvSpPr/>
            <p:nvPr/>
          </p:nvSpPr>
          <p:spPr>
            <a:xfrm>
              <a:off x="365760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380988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312408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3124080"/>
            <a:ext cx="2438640" cy="1143000"/>
            <a:chOff x="6324480" y="3124080"/>
            <a:chExt cx="2438640" cy="1143000"/>
          </a:xfrm>
        </p:grpSpPr>
        <p:sp>
          <p:nvSpPr>
            <p:cNvPr id="164" name=""/>
            <p:cNvSpPr/>
            <p:nvPr/>
          </p:nvSpPr>
          <p:spPr>
            <a:xfrm>
              <a:off x="632448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80988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18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31240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1143000"/>
            <a:ext cx="2819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1)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809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1143000"/>
            <a:ext cx="49532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905120"/>
            <a:ext cx="3581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26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219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438280" y="5105520"/>
            <a:ext cx="1603440" cy="838080"/>
            <a:chOff x="2438280" y="5105520"/>
            <a:chExt cx="1603440" cy="838080"/>
          </a:xfrm>
        </p:grpSpPr>
        <p:sp>
          <p:nvSpPr>
            <p:cNvPr id="1056" name=""/>
            <p:cNvSpPr/>
            <p:nvPr/>
          </p:nvSpPr>
          <p:spPr>
            <a:xfrm>
              <a:off x="2438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38280" y="5105520"/>
              <a:ext cx="1603440" cy="3808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5480" y="5486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72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5760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981080" y="16002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312408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66680" y="31240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47920" y="3124080"/>
            <a:ext cx="14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6680" y="342900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3429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2057400"/>
            <a:ext cx="1968480" cy="1066680"/>
          </a:xfrm>
          <a:custGeom>
            <a:avLst/>
            <a:gdLst/>
            <a:ahLst/>
            <a:rect l="l" t="t" r="r" b="b"/>
            <a:pathLst>
              <a:path w="1240" h="672">
                <a:moveTo>
                  <a:pt x="826" y="0"/>
                </a:moveTo>
                <a:lnTo>
                  <a:pt x="0" y="672"/>
                </a:lnTo>
                <a:lnTo>
                  <a:pt x="736" y="672"/>
                </a:lnTo>
                <a:cubicBezTo>
                  <a:pt x="872" y="624"/>
                  <a:pt x="773" y="454"/>
                  <a:pt x="816" y="384"/>
                </a:cubicBezTo>
                <a:cubicBezTo>
                  <a:pt x="859" y="314"/>
                  <a:pt x="921" y="269"/>
                  <a:pt x="992" y="248"/>
                </a:cubicBezTo>
                <a:cubicBezTo>
                  <a:pt x="1063" y="227"/>
                  <a:pt x="1221" y="297"/>
                  <a:pt x="1240" y="256"/>
                </a:cubicBezTo>
                <a:lnTo>
                  <a:pt x="1104" y="0"/>
                </a:lnTo>
                <a:lnTo>
                  <a:pt x="826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5120" y="1523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432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2362320"/>
            <a:ext cx="3808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09480" y="2286000"/>
            <a:ext cx="8153640" cy="2913120"/>
            <a:chOff x="609480" y="2286000"/>
            <a:chExt cx="8153640" cy="2913120"/>
          </a:xfrm>
        </p:grpSpPr>
        <p:sp>
          <p:nvSpPr>
            <p:cNvPr id="1079" name=""/>
            <p:cNvSpPr/>
            <p:nvPr/>
          </p:nvSpPr>
          <p:spPr>
            <a:xfrm>
              <a:off x="3733920" y="2286000"/>
              <a:ext cx="50292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a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85800" y="3809880"/>
              <a:ext cx="2895480" cy="1389240"/>
              <a:chOff x="685800" y="3809880"/>
              <a:chExt cx="2895480" cy="1389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905120" y="3886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8800" y="3809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5800" y="464832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66680" y="46483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479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66680" y="4952880"/>
                <a:ext cx="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479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38280" y="464832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195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0040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0040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05120" y="46483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8800" y="464832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219320" y="434340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33720" y="4343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33720" y="4343400"/>
                <a:ext cx="8380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2286000" y="5943600"/>
            <a:ext cx="2057400" cy="749160"/>
            <a:chOff x="2286000" y="5943600"/>
            <a:chExt cx="2057400" cy="749160"/>
          </a:xfrm>
        </p:grpSpPr>
        <p:sp>
          <p:nvSpPr>
            <p:cNvPr id="1100" name=""/>
            <p:cNvSpPr/>
            <p:nvPr/>
          </p:nvSpPr>
          <p:spPr>
            <a:xfrm>
              <a:off x="2286000" y="6172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y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880" y="59436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5829480" y="5562720"/>
            <a:ext cx="1091880" cy="838080"/>
          </a:xfrm>
          <a:custGeom>
            <a:avLst/>
            <a:gdLst/>
            <a:ahLst/>
            <a:rect l="l" t="t" r="r" b="b"/>
            <a:pathLst>
              <a:path w="688" h="576">
                <a:moveTo>
                  <a:pt x="688" y="576"/>
                </a:moveTo>
                <a:cubicBezTo>
                  <a:pt x="668" y="555"/>
                  <a:pt x="661" y="484"/>
                  <a:pt x="568" y="448"/>
                </a:cubicBezTo>
                <a:cubicBezTo>
                  <a:pt x="475" y="412"/>
                  <a:pt x="223" y="435"/>
                  <a:pt x="128" y="360"/>
                </a:cubicBezTo>
                <a:cubicBezTo>
                  <a:pt x="33" y="285"/>
                  <a:pt x="27" y="75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0" y="5181480"/>
            <a:ext cx="2286000" cy="901800"/>
            <a:chOff x="0" y="5181480"/>
            <a:chExt cx="2286000" cy="901800"/>
          </a:xfrm>
        </p:grpSpPr>
        <p:sp>
          <p:nvSpPr>
            <p:cNvPr id="1104" name=""/>
            <p:cNvSpPr/>
            <p:nvPr/>
          </p:nvSpPr>
          <p:spPr>
            <a:xfrm flipH="1">
              <a:off x="1752120" y="518148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5562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315200" y="4419720"/>
            <a:ext cx="1603440" cy="1066680"/>
            <a:chOff x="7315200" y="4419720"/>
            <a:chExt cx="1603440" cy="1066680"/>
          </a:xfrm>
        </p:grpSpPr>
        <p:sp>
          <p:nvSpPr>
            <p:cNvPr id="1107" name=""/>
            <p:cNvSpPr/>
            <p:nvPr/>
          </p:nvSpPr>
          <p:spPr>
            <a:xfrm>
              <a:off x="7315200" y="5029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5200" y="4419720"/>
              <a:ext cx="1603440" cy="6094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72400" y="50292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50292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34520" y="50292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53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345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315200" y="3962520"/>
            <a:ext cx="1143000" cy="457200"/>
            <a:chOff x="7315200" y="39625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7315200" y="39625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96080" y="3962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77320" y="3962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960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733920" y="2971800"/>
            <a:ext cx="5257800" cy="2531880"/>
            <a:chOff x="3733920" y="2971800"/>
            <a:chExt cx="5257800" cy="2531880"/>
          </a:xfrm>
        </p:grpSpPr>
        <p:sp>
          <p:nvSpPr>
            <p:cNvPr id="1121" name=""/>
            <p:cNvSpPr/>
            <p:nvPr/>
          </p:nvSpPr>
          <p:spPr>
            <a:xfrm>
              <a:off x="3733920" y="2971800"/>
              <a:ext cx="52578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b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symbols 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A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343400" y="3962520"/>
              <a:ext cx="3048120" cy="1541160"/>
              <a:chOff x="4343400" y="3962520"/>
              <a:chExt cx="3048120" cy="154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858000" y="39625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81680" y="3962520"/>
                <a:ext cx="609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343400" y="502920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24280" y="502920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055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24280" y="53341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055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95880" y="502920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71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5800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771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5800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62720" y="5029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86400" y="4952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876920" y="4419720"/>
                <a:ext cx="21333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791320" y="4419720"/>
                <a:ext cx="1295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705720" y="4419720"/>
                <a:ext cx="3808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267080" y="39625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858000" y="5486400"/>
            <a:ext cx="2286000" cy="1206360"/>
            <a:chOff x="6858000" y="5486400"/>
            <a:chExt cx="2286000" cy="1206360"/>
          </a:xfrm>
        </p:grpSpPr>
        <p:sp>
          <p:nvSpPr>
            <p:cNvPr id="1142" name=""/>
            <p:cNvSpPr/>
            <p:nvPr/>
          </p:nvSpPr>
          <p:spPr>
            <a:xfrm>
              <a:off x="68580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4864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19920" y="5486400"/>
            <a:ext cx="1409760" cy="657720"/>
            <a:chOff x="6019920" y="5486400"/>
            <a:chExt cx="1409760" cy="657720"/>
          </a:xfrm>
        </p:grpSpPr>
        <p:sp>
          <p:nvSpPr>
            <p:cNvPr id="1145" name=""/>
            <p:cNvSpPr/>
            <p:nvPr/>
          </p:nvSpPr>
          <p:spPr>
            <a:xfrm>
              <a:off x="655308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7220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34320" y="54864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992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0080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81680" y="5562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209680" y="5181480"/>
            <a:ext cx="266760" cy="1181160"/>
          </a:xfrm>
          <a:custGeom>
            <a:avLst/>
            <a:gdLst/>
            <a:ahLst/>
            <a:rect l="l" t="t" r="r" b="b"/>
            <a:pathLst>
              <a:path w="200" h="792">
                <a:moveTo>
                  <a:pt x="200" y="792"/>
                </a:moveTo>
                <a:cubicBezTo>
                  <a:pt x="175" y="757"/>
                  <a:pt x="81" y="716"/>
                  <a:pt x="48" y="584"/>
                </a:cubicBezTo>
                <a:cubicBezTo>
                  <a:pt x="15" y="452"/>
                  <a:pt x="10" y="12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343400" y="5562720"/>
            <a:ext cx="2286000" cy="1130040"/>
            <a:chOff x="4343400" y="5562720"/>
            <a:chExt cx="2286000" cy="1130040"/>
          </a:xfrm>
        </p:grpSpPr>
        <p:sp>
          <p:nvSpPr>
            <p:cNvPr id="1153" name=""/>
            <p:cNvSpPr/>
            <p:nvPr/>
          </p:nvSpPr>
          <p:spPr>
            <a:xfrm>
              <a:off x="43434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05160" y="5562720"/>
              <a:ext cx="6094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1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133360" y="4191120"/>
            <a:ext cx="2590920" cy="459720"/>
            <a:chOff x="2133360" y="4191120"/>
            <a:chExt cx="2590920" cy="459720"/>
          </a:xfrm>
        </p:grpSpPr>
        <p:sp>
          <p:nvSpPr>
            <p:cNvPr id="1160" name=""/>
            <p:cNvSpPr/>
            <p:nvPr/>
          </p:nvSpPr>
          <p:spPr>
            <a:xfrm rot="5400000">
              <a:off x="2171520" y="41529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3720" y="4191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352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676520" y="4876920"/>
            <a:ext cx="761760" cy="459720"/>
            <a:chOff x="1676520" y="4876920"/>
            <a:chExt cx="761760" cy="459720"/>
          </a:xfrm>
        </p:grpSpPr>
        <p:sp>
          <p:nvSpPr>
            <p:cNvPr id="1167" name=""/>
            <p:cNvSpPr/>
            <p:nvPr/>
          </p:nvSpPr>
          <p:spPr>
            <a:xfrm>
              <a:off x="1676520" y="4876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866600" y="48387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352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 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14400" y="5257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914400" y="5486400"/>
            <a:ext cx="3200400" cy="536040"/>
            <a:chOff x="914400" y="5486400"/>
            <a:chExt cx="3200400" cy="536040"/>
          </a:xfrm>
        </p:grpSpPr>
        <p:sp>
          <p:nvSpPr>
            <p:cNvPr id="1172" name=""/>
            <p:cNvSpPr/>
            <p:nvPr/>
          </p:nvSpPr>
          <p:spPr>
            <a:xfrm rot="5400000">
              <a:off x="1866600" y="54482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144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35268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09480" y="6019920"/>
            <a:ext cx="8001000" cy="380880"/>
            <a:chOff x="609480" y="6019920"/>
            <a:chExt cx="8001000" cy="380880"/>
          </a:xfrm>
        </p:grpSpPr>
        <p:sp>
          <p:nvSpPr>
            <p:cNvPr id="1176" name=""/>
            <p:cNvSpPr/>
            <p:nvPr/>
          </p:nvSpPr>
          <p:spPr>
            <a:xfrm>
              <a:off x="609480" y="60199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5562720" y="1143000"/>
            <a:ext cx="2209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2438280"/>
            <a:ext cx="7848720" cy="381240"/>
            <a:chOff x="609480" y="2438280"/>
            <a:chExt cx="7848720" cy="381240"/>
          </a:xfrm>
        </p:grpSpPr>
        <p:sp>
          <p:nvSpPr>
            <p:cNvPr id="1180" name=""/>
            <p:cNvSpPr/>
            <p:nvPr/>
          </p:nvSpPr>
          <p:spPr>
            <a:xfrm>
              <a:off x="609480" y="243828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)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9480" y="2819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352680" y="2819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1905120" y="3124080"/>
            <a:ext cx="761760" cy="459720"/>
            <a:chOff x="1905120" y="3124080"/>
            <a:chExt cx="761760" cy="459720"/>
          </a:xfrm>
        </p:grpSpPr>
        <p:sp>
          <p:nvSpPr>
            <p:cNvPr id="1185" name=""/>
            <p:cNvSpPr/>
            <p:nvPr/>
          </p:nvSpPr>
          <p:spPr>
            <a:xfrm rot="5400000">
              <a:off x="2094840" y="30859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51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9480" y="3505320"/>
            <a:ext cx="8001000" cy="380880"/>
            <a:chOff x="609480" y="3505320"/>
            <a:chExt cx="8001000" cy="380880"/>
          </a:xfrm>
        </p:grpSpPr>
        <p:sp>
          <p:nvSpPr>
            <p:cNvPr id="1188" name=""/>
            <p:cNvSpPr/>
            <p:nvPr/>
          </p:nvSpPr>
          <p:spPr>
            <a:xfrm>
              <a:off x="685800" y="3886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480" y="35053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2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520" y="4648320"/>
            <a:ext cx="8381880" cy="2211120"/>
            <a:chOff x="533520" y="4648320"/>
            <a:chExt cx="8381880" cy="2211120"/>
          </a:xfrm>
        </p:grpSpPr>
        <p:sp>
          <p:nvSpPr>
            <p:cNvPr id="1196" name=""/>
            <p:cNvSpPr/>
            <p:nvPr/>
          </p:nvSpPr>
          <p:spPr>
            <a:xfrm>
              <a:off x="533520" y="46623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2094840" y="4852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7400" y="48909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29000" y="464832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00200" y="55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8080" y="52722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790280" y="54626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525780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5805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1789920" y="5995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6110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57913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480" y="64911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562720" y="1143000"/>
            <a:ext cx="28954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09480" y="2438280"/>
            <a:ext cx="8153640" cy="2288520"/>
            <a:chOff x="609480" y="2438280"/>
            <a:chExt cx="8153640" cy="2288520"/>
          </a:xfrm>
        </p:grpSpPr>
        <p:sp>
          <p:nvSpPr>
            <p:cNvPr id="1211" name=""/>
            <p:cNvSpPr/>
            <p:nvPr/>
          </p:nvSpPr>
          <p:spPr>
            <a:xfrm>
              <a:off x="609480" y="2438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2475720" y="2628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8280" y="2666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9000" y="243828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" y="30481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171520" y="32385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0481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581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171160" y="3771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29000" y="35812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80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thing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4648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3/3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09480" y="2514600"/>
            <a:ext cx="8534520" cy="2349360"/>
            <a:chOff x="609480" y="2514600"/>
            <a:chExt cx="8534520" cy="2349360"/>
          </a:xfrm>
        </p:grpSpPr>
        <p:sp>
          <p:nvSpPr>
            <p:cNvPr id="1232" name=""/>
            <p:cNvSpPr/>
            <p:nvPr/>
          </p:nvSpPr>
          <p:spPr>
            <a:xfrm>
              <a:off x="3429000" y="251460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29000" y="36576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120" y="4800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2514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400120" y="2705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2320" y="27432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1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4400" y="31240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2171160" y="33145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29000" y="31240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3657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2171520" y="3848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3962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5800" y="43434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nd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thing is chang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4724280"/>
            <a:ext cx="6858000" cy="1882080"/>
            <a:chOff x="609480" y="4724280"/>
            <a:chExt cx="6858000" cy="1882080"/>
          </a:xfrm>
        </p:grpSpPr>
        <p:sp>
          <p:nvSpPr>
            <p:cNvPr id="1247" name=""/>
            <p:cNvSpPr/>
            <p:nvPr/>
          </p:nvSpPr>
          <p:spPr>
            <a:xfrm>
              <a:off x="609480" y="47242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6880" y="4800600"/>
              <a:ext cx="480060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F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90920"/>
            <a:ext cx="7788240" cy="326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143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redic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tring obtained by a derivation started  by using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Illust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7800" y="2971800"/>
            <a:ext cx="1981080" cy="1036800"/>
            <a:chOff x="5257800" y="2971800"/>
            <a:chExt cx="1981080" cy="1036800"/>
          </a:xfrm>
        </p:grpSpPr>
        <p:sp>
          <p:nvSpPr>
            <p:cNvPr id="1257" name=""/>
            <p:cNvSpPr/>
            <p:nvPr/>
          </p:nvSpPr>
          <p:spPr>
            <a:xfrm>
              <a:off x="53341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360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057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78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294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86040" y="2971800"/>
              <a:ext cx="1523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248520" y="2971800"/>
              <a:ext cx="7617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33960" y="2971800"/>
              <a:ext cx="759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24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4038480" y="16761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238880" y="2971800"/>
            <a:ext cx="1603440" cy="1752480"/>
            <a:chOff x="7238880" y="2971800"/>
            <a:chExt cx="1603440" cy="1752480"/>
          </a:xfrm>
        </p:grpSpPr>
        <p:sp>
          <p:nvSpPr>
            <p:cNvPr id="1269" name=""/>
            <p:cNvSpPr/>
            <p:nvPr/>
          </p:nvSpPr>
          <p:spPr>
            <a:xfrm>
              <a:off x="723888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8880" y="2971800"/>
              <a:ext cx="1603440" cy="12952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96080" y="42670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82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773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582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52480" y="3124080"/>
            <a:ext cx="2057400" cy="808200"/>
            <a:chOff x="1752480" y="3124080"/>
            <a:chExt cx="2057400" cy="808200"/>
          </a:xfrm>
        </p:grpSpPr>
        <p:sp>
          <p:nvSpPr>
            <p:cNvPr id="1277" name=""/>
            <p:cNvSpPr/>
            <p:nvPr/>
          </p:nvSpPr>
          <p:spPr>
            <a:xfrm>
              <a:off x="182880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7672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52480" y="33526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980720" y="312408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66688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43200" y="31240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54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600200" y="3886200"/>
            <a:ext cx="2362320" cy="838080"/>
            <a:chOff x="1600200" y="3886200"/>
            <a:chExt cx="2362320" cy="838080"/>
          </a:xfrm>
        </p:grpSpPr>
        <p:sp>
          <p:nvSpPr>
            <p:cNvPr id="1288" name=""/>
            <p:cNvSpPr/>
            <p:nvPr/>
          </p:nvSpPr>
          <p:spPr>
            <a:xfrm>
              <a:off x="160020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7400" y="4267080"/>
              <a:ext cx="19051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38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95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81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004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38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95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004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00200" y="3886200"/>
              <a:ext cx="2362320" cy="380880"/>
            </a:xfrm>
            <a:custGeom>
              <a:avLst/>
              <a:gdLst>
                <a:gd name="textAreaLeft" fmla="*/ 327960 w 2362320"/>
                <a:gd name="textAreaRight" fmla="*/ 2034360 w 2362320"/>
                <a:gd name="textAreaTop" fmla="*/ 52920 h 380880"/>
                <a:gd name="textAreaBottom" fmla="*/ 3279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1" y="21600"/>
                  </a:lnTo>
                  <a:lnTo>
                    <a:pt x="224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257800" y="3962520"/>
            <a:ext cx="2019240" cy="733680"/>
            <a:chOff x="5257800" y="3962520"/>
            <a:chExt cx="2019240" cy="733680"/>
          </a:xfrm>
        </p:grpSpPr>
        <p:grpSp>
          <p:nvGrpSpPr>
            <p:cNvPr id="1300" name=""/>
            <p:cNvGrpSpPr/>
            <p:nvPr/>
          </p:nvGrpSpPr>
          <p:grpSpPr>
            <a:xfrm>
              <a:off x="5257800" y="3962520"/>
              <a:ext cx="647640" cy="733680"/>
              <a:chOff x="5257800" y="3962520"/>
              <a:chExt cx="647640" cy="733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2578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100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67280" y="3962520"/>
              <a:ext cx="648000" cy="733680"/>
              <a:chOff x="5867280" y="3962520"/>
              <a:chExt cx="648000" cy="733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019920" y="396252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7280" y="41148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629400" y="3962520"/>
              <a:ext cx="647640" cy="733680"/>
              <a:chOff x="6629400" y="3962520"/>
              <a:chExt cx="647640" cy="733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67816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94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624852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762120" y="1143000"/>
            <a:ext cx="73152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vs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4800600"/>
            <a:ext cx="3124080" cy="723240"/>
            <a:chOff x="228600" y="4800600"/>
            <a:chExt cx="3124080" cy="723240"/>
          </a:xfrm>
        </p:grpSpPr>
        <p:sp>
          <p:nvSpPr>
            <p:cNvPr id="1312" name=""/>
            <p:cNvSpPr/>
            <p:nvPr/>
          </p:nvSpPr>
          <p:spPr>
            <a:xfrm>
              <a:off x="228600" y="4952880"/>
              <a:ext cx="31240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48006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934320" y="4800600"/>
            <a:ext cx="2209680" cy="1038240"/>
            <a:chOff x="6934320" y="4800600"/>
            <a:chExt cx="2209680" cy="1038240"/>
          </a:xfrm>
        </p:grpSpPr>
        <p:sp>
          <p:nvSpPr>
            <p:cNvPr id="1315" name=""/>
            <p:cNvSpPr/>
            <p:nvPr/>
          </p:nvSpPr>
          <p:spPr>
            <a:xfrm>
              <a:off x="6934320" y="4952880"/>
              <a:ext cx="220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ollow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1520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409720" y="4572000"/>
            <a:ext cx="1676520" cy="581400"/>
            <a:chOff x="5409720" y="4572000"/>
            <a:chExt cx="1676520" cy="581400"/>
          </a:xfrm>
        </p:grpSpPr>
        <p:sp>
          <p:nvSpPr>
            <p:cNvPr id="1318" name=""/>
            <p:cNvSpPr/>
            <p:nvPr/>
          </p:nvSpPr>
          <p:spPr>
            <a:xfrm rot="5400000">
              <a:off x="6171840" y="3809880"/>
              <a:ext cx="152280" cy="1676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572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380880" y="5410080"/>
            <a:ext cx="8610840" cy="1558440"/>
            <a:chOff x="380880" y="5410080"/>
            <a:chExt cx="8610840" cy="1558440"/>
          </a:xfrm>
        </p:grpSpPr>
        <p:sp>
          <p:nvSpPr>
            <p:cNvPr id="1321" name=""/>
            <p:cNvSpPr/>
            <p:nvPr/>
          </p:nvSpPr>
          <p:spPr>
            <a:xfrm>
              <a:off x="380880" y="5410080"/>
              <a:ext cx="861084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th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9480" y="5486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108320" y="1676520"/>
            <a:ext cx="4273560" cy="3047760"/>
            <a:chOff x="4108320" y="1676520"/>
            <a:chExt cx="4273560" cy="3047760"/>
          </a:xfrm>
        </p:grpSpPr>
        <p:sp>
          <p:nvSpPr>
            <p:cNvPr id="1324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720" y="167652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81680" y="2514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08320" y="2114640"/>
              <a:ext cx="4273560" cy="2152440"/>
            </a:xfrm>
            <a:custGeom>
              <a:avLst/>
              <a:gdLst/>
              <a:ahLst/>
              <a:rect l="l" t="t" r="r" b="b"/>
              <a:pathLst>
                <a:path w="2692" h="1356">
                  <a:moveTo>
                    <a:pt x="1642" y="0"/>
                  </a:moveTo>
                  <a:lnTo>
                    <a:pt x="0" y="1356"/>
                  </a:lnTo>
                  <a:lnTo>
                    <a:pt x="726" y="1356"/>
                  </a:lnTo>
                  <a:lnTo>
                    <a:pt x="724" y="822"/>
                  </a:lnTo>
                  <a:lnTo>
                    <a:pt x="1684" y="532"/>
                  </a:lnTo>
                  <a:lnTo>
                    <a:pt x="1684" y="248"/>
                  </a:lnTo>
                  <a:lnTo>
                    <a:pt x="2692" y="246"/>
                  </a:lnTo>
                  <a:lnTo>
                    <a:pt x="19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29400" y="1676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1480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769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25146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2012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0100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2012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100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276720" y="4952880"/>
            <a:ext cx="3809880" cy="475200"/>
            <a:chOff x="3276720" y="4952880"/>
            <a:chExt cx="3809880" cy="475200"/>
          </a:xfrm>
        </p:grpSpPr>
        <p:sp>
          <p:nvSpPr>
            <p:cNvPr id="1340" name=""/>
            <p:cNvSpPr/>
            <p:nvPr/>
          </p:nvSpPr>
          <p:spPr>
            <a:xfrm>
              <a:off x="3276720" y="4952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33920" y="502920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he current input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80880" y="1828800"/>
            <a:ext cx="3084480" cy="2895480"/>
            <a:chOff x="380880" y="1828800"/>
            <a:chExt cx="3084480" cy="2895480"/>
          </a:xfrm>
        </p:grpSpPr>
        <p:sp>
          <p:nvSpPr>
            <p:cNvPr id="1343" name=""/>
            <p:cNvSpPr/>
            <p:nvPr/>
          </p:nvSpPr>
          <p:spPr>
            <a:xfrm>
              <a:off x="2514600" y="2666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18288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33720" y="18288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088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514600" y="2666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2286000"/>
              <a:ext cx="3084480" cy="2000160"/>
            </a:xfrm>
            <a:custGeom>
              <a:avLst/>
              <a:gdLst/>
              <a:ahLst/>
              <a:rect l="l" t="t" r="r" b="b"/>
              <a:pathLst>
                <a:path w="1943" h="1260">
                  <a:moveTo>
                    <a:pt x="1144" y="0"/>
                  </a:moveTo>
                  <a:lnTo>
                    <a:pt x="0" y="1260"/>
                  </a:lnTo>
                  <a:lnTo>
                    <a:pt x="726" y="1260"/>
                  </a:lnTo>
                  <a:lnTo>
                    <a:pt x="872" y="992"/>
                  </a:lnTo>
                  <a:lnTo>
                    <a:pt x="872" y="688"/>
                  </a:lnTo>
                  <a:lnTo>
                    <a:pt x="1344" y="524"/>
                  </a:lnTo>
                  <a:lnTo>
                    <a:pt x="1344" y="238"/>
                  </a:lnTo>
                  <a:lnTo>
                    <a:pt x="1634" y="240"/>
                  </a:lnTo>
                  <a:lnTo>
                    <a:pt x="1632" y="426"/>
                  </a:lnTo>
                  <a:cubicBezTo>
                    <a:pt x="1677" y="443"/>
                    <a:pt x="1865" y="391"/>
                    <a:pt x="1904" y="344"/>
                  </a:cubicBezTo>
                  <a:cubicBezTo>
                    <a:pt x="1943" y="297"/>
                    <a:pt x="1941" y="201"/>
                    <a:pt x="1864" y="144"/>
                  </a:cubicBezTo>
                  <a:lnTo>
                    <a:pt x="1440" y="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1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621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30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837720" y="1600200"/>
            <a:ext cx="2971800" cy="1143000"/>
            <a:chOff x="837720" y="1600200"/>
            <a:chExt cx="2971800" cy="1143000"/>
          </a:xfrm>
        </p:grpSpPr>
        <p:sp>
          <p:nvSpPr>
            <p:cNvPr id="1354" name=""/>
            <p:cNvSpPr/>
            <p:nvPr/>
          </p:nvSpPr>
          <p:spPr>
            <a:xfrm rot="5400000">
              <a:off x="2247480" y="19008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7400" y="1828800"/>
              <a:ext cx="30492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047760" y="1600200"/>
            <a:ext cx="4419720" cy="1219320"/>
            <a:chOff x="3047760" y="1600200"/>
            <a:chExt cx="4419720" cy="1219320"/>
          </a:xfrm>
        </p:grpSpPr>
        <p:sp>
          <p:nvSpPr>
            <p:cNvPr id="1357" name=""/>
            <p:cNvSpPr/>
            <p:nvPr/>
          </p:nvSpPr>
          <p:spPr>
            <a:xfrm rot="5400000">
              <a:off x="5790960" y="75960"/>
              <a:ext cx="152280" cy="3200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047760" y="1828800"/>
              <a:ext cx="25146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029200" y="1752480"/>
            <a:ext cx="1600200" cy="914400"/>
            <a:chOff x="5029200" y="1752480"/>
            <a:chExt cx="1600200" cy="914400"/>
          </a:xfrm>
        </p:grpSpPr>
        <p:sp>
          <p:nvSpPr>
            <p:cNvPr id="1360" name=""/>
            <p:cNvSpPr/>
            <p:nvPr/>
          </p:nvSpPr>
          <p:spPr>
            <a:xfrm>
              <a:off x="5562720" y="1828800"/>
              <a:ext cx="10666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29200" y="1752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6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57200" y="3505320"/>
            <a:ext cx="8001000" cy="1066680"/>
            <a:chOff x="457200" y="3505320"/>
            <a:chExt cx="8001000" cy="1066680"/>
          </a:xfrm>
        </p:grpSpPr>
        <p:sp>
          <p:nvSpPr>
            <p:cNvPr id="1372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7200" y="350532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75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" y="4572000"/>
              <a:ext cx="80010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457200" y="5638680"/>
            <a:ext cx="7391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beca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8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57200" y="3505320"/>
            <a:ext cx="8458200" cy="1312200"/>
            <a:chOff x="457200" y="3505320"/>
            <a:chExt cx="8458200" cy="1312200"/>
          </a:xfrm>
        </p:grpSpPr>
        <p:sp>
          <p:nvSpPr>
            <p:cNvPr id="1388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" y="3505320"/>
              <a:ext cx="8458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91" name=""/>
            <p:cNvSpPr/>
            <p:nvPr/>
          </p:nvSpPr>
          <p:spPr>
            <a:xfrm>
              <a:off x="457200" y="457200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57200" y="563868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1397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581280" y="1752480"/>
            <a:ext cx="5257800" cy="1341720"/>
            <a:chOff x="3581280" y="1752480"/>
            <a:chExt cx="5257800" cy="1341720"/>
          </a:xfrm>
        </p:grpSpPr>
        <p:sp>
          <p:nvSpPr>
            <p:cNvPr id="1412" name=""/>
            <p:cNvSpPr/>
            <p:nvPr/>
          </p:nvSpPr>
          <p:spPr>
            <a:xfrm>
              <a:off x="4572000" y="1752480"/>
              <a:ext cx="4267080" cy="1341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is blank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143000" y="3886200"/>
            <a:ext cx="4190760" cy="794880"/>
            <a:chOff x="1143000" y="3886200"/>
            <a:chExt cx="4190760" cy="794880"/>
          </a:xfrm>
        </p:grpSpPr>
        <p:sp>
          <p:nvSpPr>
            <p:cNvPr id="1416" name=""/>
            <p:cNvSpPr/>
            <p:nvPr/>
          </p:nvSpPr>
          <p:spPr>
            <a:xfrm>
              <a:off x="1981080" y="419112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33560" y="3886200"/>
              <a:ext cx="160020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676520" y="4419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30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143000" y="4876920"/>
            <a:ext cx="4190760" cy="489960"/>
            <a:chOff x="1143000" y="4876920"/>
            <a:chExt cx="4190760" cy="489960"/>
          </a:xfrm>
        </p:grpSpPr>
        <p:sp>
          <p:nvSpPr>
            <p:cNvPr id="1421" name=""/>
            <p:cNvSpPr/>
            <p:nvPr/>
          </p:nvSpPr>
          <p:spPr>
            <a:xfrm>
              <a:off x="1981080" y="4876920"/>
              <a:ext cx="198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733560" y="5029200"/>
              <a:ext cx="1600200" cy="1522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76520" y="51055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430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143000" y="5562720"/>
            <a:ext cx="4267080" cy="914400"/>
            <a:chOff x="1143000" y="5562720"/>
            <a:chExt cx="4267080" cy="914400"/>
          </a:xfrm>
        </p:grpSpPr>
        <p:sp>
          <p:nvSpPr>
            <p:cNvPr id="1426" name=""/>
            <p:cNvSpPr/>
            <p:nvPr/>
          </p:nvSpPr>
          <p:spPr>
            <a:xfrm>
              <a:off x="1981080" y="556272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3733920" y="5867280"/>
              <a:ext cx="1676160" cy="609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30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09480" y="3124080"/>
            <a:ext cx="8229600" cy="3919320"/>
            <a:chOff x="609480" y="3124080"/>
            <a:chExt cx="8229600" cy="3919320"/>
          </a:xfrm>
        </p:grpSpPr>
        <p:sp>
          <p:nvSpPr>
            <p:cNvPr id="1432" name=""/>
            <p:cNvSpPr/>
            <p:nvPr/>
          </p:nvSpPr>
          <p:spPr>
            <a:xfrm>
              <a:off x="685800" y="37339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2120" y="411480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1932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80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1911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6019920"/>
              <a:ext cx="217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3124080"/>
              <a:ext cx="4419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LL table for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90720" y="373392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52480" y="3733920"/>
              <a:ext cx="180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2388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90920" y="365760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860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195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574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52680" y="373392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197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0400" y="3657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576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120" y="3657600"/>
              <a:ext cx="205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657600"/>
              <a:ext cx="129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57800" y="3657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81480" y="3276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6292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582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57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57800" y="6705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257800" y="3276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8480" y="36576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3124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219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2120" y="160020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19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1600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124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909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574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526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13716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77120" y="13716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432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432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765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765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09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3200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7339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911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952880" y="6095880"/>
            <a:ext cx="533520" cy="550800"/>
            <a:chOff x="4952880" y="6095880"/>
            <a:chExt cx="533520" cy="550800"/>
          </a:xfrm>
        </p:grpSpPr>
        <p:sp>
          <p:nvSpPr>
            <p:cNvPr id="1501" name=""/>
            <p:cNvSpPr/>
            <p:nvPr/>
          </p:nvSpPr>
          <p:spPr>
            <a:xfrm>
              <a:off x="5029200" y="6172200"/>
              <a:ext cx="3808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52880" y="6095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200400" y="4419720"/>
            <a:ext cx="1219320" cy="931680"/>
            <a:chOff x="3200400" y="4419720"/>
            <a:chExt cx="1219320" cy="931680"/>
          </a:xfrm>
        </p:grpSpPr>
        <p:sp>
          <p:nvSpPr>
            <p:cNvPr id="1504" name=""/>
            <p:cNvSpPr/>
            <p:nvPr/>
          </p:nvSpPr>
          <p:spPr>
            <a:xfrm>
              <a:off x="3200400" y="48006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3920" y="4800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58092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0988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290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581280" y="3809880"/>
            <a:ext cx="2210040" cy="932040"/>
            <a:chOff x="3581280" y="3809880"/>
            <a:chExt cx="2210040" cy="932040"/>
          </a:xfrm>
        </p:grpSpPr>
        <p:sp>
          <p:nvSpPr>
            <p:cNvPr id="1510" name=""/>
            <p:cNvSpPr/>
            <p:nvPr/>
          </p:nvSpPr>
          <p:spPr>
            <a:xfrm>
              <a:off x="5105520" y="419112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E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81280" y="41911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886200" y="41148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67080" y="4114800"/>
              <a:ext cx="1143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038480" y="4952880"/>
            <a:ext cx="1295640" cy="1219320"/>
            <a:chOff x="4038480" y="4952880"/>
            <a:chExt cx="1295640" cy="1219320"/>
          </a:xfrm>
        </p:grpSpPr>
        <p:sp>
          <p:nvSpPr>
            <p:cNvPr id="1516" name=""/>
            <p:cNvSpPr/>
            <p:nvPr/>
          </p:nvSpPr>
          <p:spPr>
            <a:xfrm>
              <a:off x="4191120" y="54100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48320" y="5181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3848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38480" y="525780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38480" y="5257800"/>
              <a:ext cx="7621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14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200400" y="60958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124080" y="5257800"/>
            <a:ext cx="381240" cy="914400"/>
            <a:chOff x="3124080" y="5257800"/>
            <a:chExt cx="381240" cy="914400"/>
          </a:xfrm>
        </p:grpSpPr>
        <p:sp>
          <p:nvSpPr>
            <p:cNvPr id="1524" name=""/>
            <p:cNvSpPr/>
            <p:nvPr/>
          </p:nvSpPr>
          <p:spPr>
            <a:xfrm>
              <a:off x="342900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240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191120" y="5791320"/>
            <a:ext cx="380880" cy="459720"/>
            <a:chOff x="4191120" y="5791320"/>
            <a:chExt cx="380880" cy="459720"/>
          </a:xfrm>
        </p:grpSpPr>
        <p:sp>
          <p:nvSpPr>
            <p:cNvPr id="1527" name=""/>
            <p:cNvSpPr/>
            <p:nvPr/>
          </p:nvSpPr>
          <p:spPr>
            <a:xfrm>
              <a:off x="449568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572000" y="5486400"/>
            <a:ext cx="685800" cy="703080"/>
            <a:chOff x="4572000" y="5486400"/>
            <a:chExt cx="685800" cy="703080"/>
          </a:xfrm>
        </p:grpSpPr>
        <p:sp>
          <p:nvSpPr>
            <p:cNvPr id="1530" name=""/>
            <p:cNvSpPr/>
            <p:nvPr/>
          </p:nvSpPr>
          <p:spPr>
            <a:xfrm>
              <a:off x="48769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56386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105520" y="4495680"/>
            <a:ext cx="685800" cy="703440"/>
            <a:chOff x="5105520" y="4495680"/>
            <a:chExt cx="685800" cy="703440"/>
          </a:xfrm>
        </p:grpSpPr>
        <p:sp>
          <p:nvSpPr>
            <p:cNvPr id="1534" name=""/>
            <p:cNvSpPr/>
            <p:nvPr/>
          </p:nvSpPr>
          <p:spPr>
            <a:xfrm>
              <a:off x="541044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4648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1044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788240" cy="13683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we define the set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Symbol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31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}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entential form derivable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657600"/>
            <a:ext cx="2819520" cy="581400"/>
            <a:chOff x="2743200" y="3657600"/>
            <a:chExt cx="2819520" cy="581400"/>
          </a:xfrm>
        </p:grpSpPr>
        <p:sp>
          <p:nvSpPr>
            <p:cNvPr id="184" name=""/>
            <p:cNvSpPr/>
            <p:nvPr/>
          </p:nvSpPr>
          <p:spPr>
            <a:xfrm>
              <a:off x="2743200" y="365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3657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191120"/>
            <a:ext cx="2438640" cy="1143000"/>
            <a:chOff x="3352680" y="4191120"/>
            <a:chExt cx="2438640" cy="1143000"/>
          </a:xfrm>
        </p:grpSpPr>
        <p:sp>
          <p:nvSpPr>
            <p:cNvPr id="193" name=""/>
            <p:cNvSpPr/>
            <p:nvPr/>
          </p:nvSpPr>
          <p:spPr>
            <a:xfrm>
              <a:off x="3352680" y="4876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87692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7692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2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518184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419112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419112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64240" y="5257800"/>
            <a:ext cx="3332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05320" y="5791320"/>
            <a:ext cx="2361960" cy="886320"/>
            <a:chOff x="3505320" y="5791320"/>
            <a:chExt cx="2361960" cy="886320"/>
          </a:xfrm>
        </p:grpSpPr>
        <p:sp>
          <p:nvSpPr>
            <p:cNvPr id="207" name=""/>
            <p:cNvSpPr/>
            <p:nvPr/>
          </p:nvSpPr>
          <p:spPr>
            <a:xfrm>
              <a:off x="3505320" y="609624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791320"/>
              <a:ext cx="4222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1143000"/>
            <a:ext cx="80773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th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-ru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redi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1240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4920" y="6324480"/>
            <a:ext cx="4419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26708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48320" y="6324480"/>
            <a:ext cx="4114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33520" y="3505320"/>
            <a:ext cx="3657600" cy="2027160"/>
            <a:chOff x="533520" y="3505320"/>
            <a:chExt cx="3657600" cy="2027160"/>
          </a:xfrm>
        </p:grpSpPr>
        <p:sp>
          <p:nvSpPr>
            <p:cNvPr id="1547" name=""/>
            <p:cNvSpPr/>
            <p:nvPr/>
          </p:nvSpPr>
          <p:spPr>
            <a:xfrm>
              <a:off x="53352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209680" y="4800600"/>
              <a:ext cx="1981440" cy="731880"/>
              <a:chOff x="2209680" y="4800600"/>
              <a:chExt cx="1981440" cy="731880"/>
            </a:xfrm>
          </p:grpSpPr>
          <p:sp>
            <p:nvSpPr>
              <p:cNvPr id="1549" name=""/>
              <p:cNvSpPr/>
              <p:nvPr/>
            </p:nvSpPr>
            <p:spPr>
              <a:xfrm>
                <a:off x="22860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95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57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2096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19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81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2590920" y="4800600"/>
                <a:ext cx="7617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200040" y="4800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35268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767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2286000" y="4876920"/>
            <a:ext cx="2438280" cy="1218960"/>
            <a:chOff x="2286000" y="4876920"/>
            <a:chExt cx="2438280" cy="1218960"/>
          </a:xfrm>
        </p:grpSpPr>
        <p:sp>
          <p:nvSpPr>
            <p:cNvPr id="1560" name=""/>
            <p:cNvSpPr/>
            <p:nvPr/>
          </p:nvSpPr>
          <p:spPr>
            <a:xfrm>
              <a:off x="228600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57600" y="4876920"/>
              <a:ext cx="106668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1460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267080" y="3505320"/>
            <a:ext cx="3733920" cy="2027160"/>
            <a:chOff x="4267080" y="3505320"/>
            <a:chExt cx="3733920" cy="2027160"/>
          </a:xfrm>
        </p:grpSpPr>
        <p:sp>
          <p:nvSpPr>
            <p:cNvPr id="1565" name=""/>
            <p:cNvSpPr/>
            <p:nvPr/>
          </p:nvSpPr>
          <p:spPr>
            <a:xfrm>
              <a:off x="426708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19920" y="4800600"/>
              <a:ext cx="1981080" cy="731880"/>
              <a:chOff x="6019920" y="4800600"/>
              <a:chExt cx="1981080" cy="73188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05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7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199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629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91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0440" y="4800600"/>
                <a:ext cx="7621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010280" y="4800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292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8660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648320" y="3657600"/>
            <a:ext cx="3886200" cy="2743200"/>
            <a:chOff x="4648320" y="3657600"/>
            <a:chExt cx="3886200" cy="2743200"/>
          </a:xfrm>
        </p:grpSpPr>
        <p:sp>
          <p:nvSpPr>
            <p:cNvPr id="1578" name=""/>
            <p:cNvSpPr/>
            <p:nvPr/>
          </p:nvSpPr>
          <p:spPr>
            <a:xfrm>
              <a:off x="579132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3432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34320" y="43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832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10080" y="5943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9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10080" y="6248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7352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0080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00800" y="3657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72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153280" y="43434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2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46483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095880" y="4876920"/>
            <a:ext cx="2438640" cy="1218960"/>
            <a:chOff x="6095880" y="4876920"/>
            <a:chExt cx="2438640" cy="1218960"/>
          </a:xfrm>
        </p:grpSpPr>
        <p:sp>
          <p:nvSpPr>
            <p:cNvPr id="1595" name=""/>
            <p:cNvSpPr/>
            <p:nvPr/>
          </p:nvSpPr>
          <p:spPr>
            <a:xfrm>
              <a:off x="609588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67480" y="4876920"/>
              <a:ext cx="106704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448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8168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866920" y="4343400"/>
            <a:ext cx="2057760" cy="1371600"/>
            <a:chOff x="5866920" y="4343400"/>
            <a:chExt cx="2057760" cy="1371600"/>
          </a:xfrm>
        </p:grpSpPr>
        <p:sp>
          <p:nvSpPr>
            <p:cNvPr id="1600" name=""/>
            <p:cNvSpPr/>
            <p:nvPr/>
          </p:nvSpPr>
          <p:spPr>
            <a:xfrm flipV="1">
              <a:off x="5867280" y="434340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5866920" y="434340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838080" y="3657600"/>
            <a:ext cx="3886200" cy="2743200"/>
            <a:chOff x="838080" y="3657600"/>
            <a:chExt cx="3886200" cy="2743200"/>
          </a:xfrm>
        </p:grpSpPr>
        <p:sp>
          <p:nvSpPr>
            <p:cNvPr id="1603" name=""/>
            <p:cNvSpPr/>
            <p:nvPr/>
          </p:nvSpPr>
          <p:spPr>
            <a:xfrm>
              <a:off x="312408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8108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9092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24080" y="4343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364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909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8128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96252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3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6252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1932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1932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371600" y="2286000"/>
            <a:ext cx="2666880" cy="1676520"/>
          </a:xfrm>
          <a:custGeom>
            <a:avLst/>
            <a:gdLst/>
            <a:ahLst/>
            <a:rect l="l" t="t" r="r" b="b"/>
            <a:pathLst>
              <a:path w="1680" h="1056">
                <a:moveTo>
                  <a:pt x="1104" y="0"/>
                </a:moveTo>
                <a:lnTo>
                  <a:pt x="0" y="1056"/>
                </a:lnTo>
                <a:lnTo>
                  <a:pt x="576" y="1056"/>
                </a:lnTo>
                <a:lnTo>
                  <a:pt x="760" y="472"/>
                </a:lnTo>
                <a:lnTo>
                  <a:pt x="1104" y="384"/>
                </a:lnTo>
                <a:lnTo>
                  <a:pt x="1392" y="384"/>
                </a:lnTo>
                <a:cubicBezTo>
                  <a:pt x="1480" y="376"/>
                  <a:pt x="1584" y="368"/>
                  <a:pt x="1632" y="336"/>
                </a:cubicBezTo>
                <a:cubicBezTo>
                  <a:pt x="1680" y="304"/>
                  <a:pt x="1680" y="232"/>
                  <a:pt x="1680" y="192"/>
                </a:cubicBezTo>
                <a:cubicBezTo>
                  <a:pt x="1680" y="152"/>
                  <a:pt x="1680" y="128"/>
                  <a:pt x="1632" y="96"/>
                </a:cubicBezTo>
                <a:cubicBezTo>
                  <a:pt x="1584" y="64"/>
                  <a:pt x="1442" y="20"/>
                  <a:pt x="1392" y="0"/>
                </a:cubicBez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Analyzer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106668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Recursive-Descent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43941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4267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redictive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nterminal is represented by a procedure, which per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092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3848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240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124080" y="30481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96252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819160" y="2895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28954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57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1337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71600" y="3962520"/>
            <a:ext cx="396252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8600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396252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123360" y="3581280"/>
            <a:ext cx="83844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5680" y="2514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86400" y="1905120"/>
            <a:ext cx="2971800" cy="2533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driven syntax analyzer with push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5029200"/>
            <a:ext cx="38088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5791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5410080"/>
            <a:ext cx="2133720" cy="77796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3124080" y="5485680"/>
            <a:ext cx="6098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057400" y="6172200"/>
            <a:ext cx="266688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0920" y="5796000"/>
            <a:ext cx="1638360" cy="401760"/>
          </a:xfrm>
          <a:custGeom>
            <a:avLst/>
            <a:gdLst/>
            <a:ahLst/>
            <a:rect l="l" t="t" r="r" b="b"/>
            <a:pathLst>
              <a:path w="1032" h="253">
                <a:moveTo>
                  <a:pt x="0" y="253"/>
                </a:moveTo>
                <a:cubicBezTo>
                  <a:pt x="20" y="209"/>
                  <a:pt x="36" y="172"/>
                  <a:pt x="96" y="157"/>
                </a:cubicBezTo>
                <a:cubicBezTo>
                  <a:pt x="156" y="142"/>
                  <a:pt x="296" y="181"/>
                  <a:pt x="360" y="165"/>
                </a:cubicBezTo>
                <a:cubicBezTo>
                  <a:pt x="424" y="149"/>
                  <a:pt x="424" y="76"/>
                  <a:pt x="480" y="61"/>
                </a:cubicBezTo>
                <a:cubicBezTo>
                  <a:pt x="536" y="46"/>
                  <a:pt x="644" y="86"/>
                  <a:pt x="696" y="77"/>
                </a:cubicBezTo>
                <a:cubicBezTo>
                  <a:pt x="748" y="68"/>
                  <a:pt x="736" y="10"/>
                  <a:pt x="792" y="5"/>
                </a:cubicBezTo>
                <a:cubicBezTo>
                  <a:pt x="848" y="0"/>
                  <a:pt x="982" y="37"/>
                  <a:pt x="1032" y="45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57600" y="594360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4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symbols are in the push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7200" y="25146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2743200" y="3581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67080" y="35812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4008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152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4008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4360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43600" y="289548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43600" y="44197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0958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057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34320" y="2438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152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722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722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2514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01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9246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229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86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086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477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77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816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915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960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5800" y="2209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1143000"/>
            <a:ext cx="8153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cedure 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this procedure get the next token to global variable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9480" y="2514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480" y="4800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9480" y="2133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4419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4495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36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53053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943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6781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34320" y="48006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152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172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722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48769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6201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246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229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152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086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866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0866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4771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771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7816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1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915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960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6960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2362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2438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809880" y="2438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6200" y="4648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8680" y="4724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3809880" y="4724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105520" y="4572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5328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9343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225960" y="194472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8" y="199"/>
                </a:moveTo>
                <a:cubicBezTo>
                  <a:pt x="2423" y="174"/>
                  <a:pt x="2373" y="79"/>
                  <a:pt x="2296" y="47"/>
                </a:cubicBezTo>
                <a:cubicBezTo>
                  <a:pt x="2219" y="15"/>
                  <a:pt x="2133" y="0"/>
                  <a:pt x="1984" y="7"/>
                </a:cubicBezTo>
                <a:cubicBezTo>
                  <a:pt x="1835" y="14"/>
                  <a:pt x="1667" y="24"/>
                  <a:pt x="1400" y="87"/>
                </a:cubicBezTo>
                <a:cubicBezTo>
                  <a:pt x="1133" y="150"/>
                  <a:pt x="617" y="290"/>
                  <a:pt x="384" y="383"/>
                </a:cubicBezTo>
                <a:cubicBezTo>
                  <a:pt x="151" y="476"/>
                  <a:pt x="80" y="592"/>
                  <a:pt x="0" y="64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5400000">
            <a:off x="3885840" y="3657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62520" y="4102200"/>
            <a:ext cx="4057560" cy="325440"/>
          </a:xfrm>
          <a:custGeom>
            <a:avLst/>
            <a:gdLst/>
            <a:ahLst/>
            <a:rect l="l" t="t" r="r" b="b"/>
            <a:pathLst>
              <a:path w="2556" h="205">
                <a:moveTo>
                  <a:pt x="2552" y="0"/>
                </a:moveTo>
                <a:cubicBezTo>
                  <a:pt x="2544" y="28"/>
                  <a:pt x="2556" y="136"/>
                  <a:pt x="2504" y="168"/>
                </a:cubicBezTo>
                <a:cubicBezTo>
                  <a:pt x="2452" y="200"/>
                  <a:pt x="2457" y="205"/>
                  <a:pt x="2240" y="192"/>
                </a:cubicBezTo>
                <a:cubicBezTo>
                  <a:pt x="2023" y="179"/>
                  <a:pt x="1469" y="116"/>
                  <a:pt x="1200" y="88"/>
                </a:cubicBezTo>
                <a:cubicBezTo>
                  <a:pt x="931" y="60"/>
                  <a:pt x="824" y="10"/>
                  <a:pt x="624" y="24"/>
                </a:cubicBezTo>
                <a:cubicBezTo>
                  <a:pt x="424" y="38"/>
                  <a:pt x="130" y="144"/>
                  <a:pt x="0" y="1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181480" y="18288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1532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8487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89320" y="1868400"/>
            <a:ext cx="4102200" cy="1103400"/>
          </a:xfrm>
          <a:custGeom>
            <a:avLst/>
            <a:gdLst/>
            <a:ahLst/>
            <a:rect l="l" t="t" r="r" b="b"/>
            <a:pathLst>
              <a:path w="2584" h="695">
                <a:moveTo>
                  <a:pt x="2584" y="244"/>
                </a:moveTo>
                <a:cubicBezTo>
                  <a:pt x="2557" y="217"/>
                  <a:pt x="2504" y="111"/>
                  <a:pt x="2421" y="75"/>
                </a:cubicBezTo>
                <a:cubicBezTo>
                  <a:pt x="2339" y="40"/>
                  <a:pt x="2296" y="0"/>
                  <a:pt x="2087" y="31"/>
                </a:cubicBezTo>
                <a:cubicBezTo>
                  <a:pt x="1878" y="62"/>
                  <a:pt x="1465" y="195"/>
                  <a:pt x="1168" y="263"/>
                </a:cubicBezTo>
                <a:cubicBezTo>
                  <a:pt x="871" y="331"/>
                  <a:pt x="499" y="367"/>
                  <a:pt x="304" y="439"/>
                </a:cubicBezTo>
                <a:cubicBezTo>
                  <a:pt x="109" y="511"/>
                  <a:pt x="63" y="642"/>
                  <a:pt x="0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5400000">
            <a:off x="4305240" y="331452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06760" y="4075200"/>
            <a:ext cx="3613320" cy="352440"/>
          </a:xfrm>
          <a:custGeom>
            <a:avLst/>
            <a:gdLst/>
            <a:ahLst/>
            <a:rect l="l" t="t" r="r" b="b"/>
            <a:pathLst>
              <a:path w="2276" h="222">
                <a:moveTo>
                  <a:pt x="2272" y="17"/>
                </a:moveTo>
                <a:cubicBezTo>
                  <a:pt x="2264" y="45"/>
                  <a:pt x="2276" y="153"/>
                  <a:pt x="2224" y="185"/>
                </a:cubicBezTo>
                <a:cubicBezTo>
                  <a:pt x="2172" y="217"/>
                  <a:pt x="2177" y="222"/>
                  <a:pt x="1960" y="209"/>
                </a:cubicBezTo>
                <a:cubicBezTo>
                  <a:pt x="1743" y="196"/>
                  <a:pt x="1192" y="138"/>
                  <a:pt x="920" y="105"/>
                </a:cubicBezTo>
                <a:cubicBezTo>
                  <a:pt x="648" y="72"/>
                  <a:pt x="481" y="0"/>
                  <a:pt x="328" y="9"/>
                </a:cubicBezTo>
                <a:cubicBezTo>
                  <a:pt x="175" y="18"/>
                  <a:pt x="68" y="129"/>
                  <a:pt x="0" y="16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807240" y="4114800"/>
            <a:ext cx="317520" cy="216000"/>
          </a:xfrm>
          <a:custGeom>
            <a:avLst/>
            <a:gdLst/>
            <a:ahLst/>
            <a:rect l="l" t="t" r="r" b="b"/>
            <a:pathLst>
              <a:path w="200" h="136">
                <a:moveTo>
                  <a:pt x="200" y="0"/>
                </a:moveTo>
                <a:cubicBezTo>
                  <a:pt x="185" y="19"/>
                  <a:pt x="145" y="89"/>
                  <a:pt x="112" y="112"/>
                </a:cubicBezTo>
                <a:cubicBezTo>
                  <a:pt x="79" y="135"/>
                  <a:pt x="23" y="131"/>
                  <a:pt x="0" y="1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6400" y="190512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66294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600200"/>
            <a:ext cx="5257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72200" y="1981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72200" y="24098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294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72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2362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244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343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530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162920" y="19051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008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00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858000" y="19810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87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532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724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152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15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15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057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102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01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201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4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403440" y="1598760"/>
            <a:ext cx="4267440" cy="776160"/>
          </a:xfrm>
          <a:custGeom>
            <a:avLst/>
            <a:gdLst/>
            <a:ahLst/>
            <a:rect l="l" t="t" r="r" b="b"/>
            <a:pathLst>
              <a:path w="2688" h="489">
                <a:moveTo>
                  <a:pt x="2688" y="233"/>
                </a:moveTo>
                <a:cubicBezTo>
                  <a:pt x="2621" y="205"/>
                  <a:pt x="2439" y="120"/>
                  <a:pt x="2288" y="81"/>
                </a:cubicBezTo>
                <a:cubicBezTo>
                  <a:pt x="2137" y="42"/>
                  <a:pt x="1995" y="2"/>
                  <a:pt x="1784" y="1"/>
                </a:cubicBezTo>
                <a:cubicBezTo>
                  <a:pt x="1573" y="0"/>
                  <a:pt x="1276" y="24"/>
                  <a:pt x="1024" y="73"/>
                </a:cubicBezTo>
                <a:cubicBezTo>
                  <a:pt x="772" y="122"/>
                  <a:pt x="443" y="227"/>
                  <a:pt x="272" y="296"/>
                </a:cubicBezTo>
                <a:cubicBezTo>
                  <a:pt x="101" y="365"/>
                  <a:pt x="57" y="449"/>
                  <a:pt x="0" y="48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289320" y="3860640"/>
            <a:ext cx="3557520" cy="965520"/>
          </a:xfrm>
          <a:custGeom>
            <a:avLst/>
            <a:gdLst/>
            <a:ahLst/>
            <a:rect l="l" t="t" r="r" b="b"/>
            <a:pathLst>
              <a:path w="2241" h="608">
                <a:moveTo>
                  <a:pt x="2224" y="0"/>
                </a:moveTo>
                <a:cubicBezTo>
                  <a:pt x="2208" y="13"/>
                  <a:pt x="2241" y="65"/>
                  <a:pt x="2136" y="80"/>
                </a:cubicBezTo>
                <a:cubicBezTo>
                  <a:pt x="2031" y="95"/>
                  <a:pt x="1808" y="76"/>
                  <a:pt x="1592" y="88"/>
                </a:cubicBezTo>
                <a:cubicBezTo>
                  <a:pt x="1376" y="100"/>
                  <a:pt x="1043" y="111"/>
                  <a:pt x="840" y="152"/>
                </a:cubicBezTo>
                <a:cubicBezTo>
                  <a:pt x="637" y="193"/>
                  <a:pt x="516" y="260"/>
                  <a:pt x="376" y="336"/>
                </a:cubicBezTo>
                <a:cubicBezTo>
                  <a:pt x="236" y="412"/>
                  <a:pt x="78" y="551"/>
                  <a:pt x="0" y="6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10080" y="4191120"/>
            <a:ext cx="3581640" cy="2334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K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ERROR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77120" y="13716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242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82880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66680" y="2286000"/>
            <a:ext cx="38124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44792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ursive Descent: Illustration for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" y="17524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685800" y="1143000"/>
            <a:ext cx="3276720" cy="1752480"/>
            <a:chOff x="685800" y="1143000"/>
            <a:chExt cx="3276720" cy="1752480"/>
          </a:xfrm>
        </p:grpSpPr>
        <p:sp>
          <p:nvSpPr>
            <p:cNvPr id="1883" name=""/>
            <p:cNvSpPr/>
            <p:nvPr/>
          </p:nvSpPr>
          <p:spPr>
            <a:xfrm>
              <a:off x="685800" y="2286000"/>
              <a:ext cx="380880" cy="609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47920" y="1143000"/>
              <a:ext cx="251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533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 *  i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71800" y="1447920"/>
            <a:ext cx="3352680" cy="1059480"/>
            <a:chOff x="2971800" y="1447920"/>
            <a:chExt cx="3352680" cy="1059480"/>
          </a:xfrm>
        </p:grpSpPr>
        <p:sp>
          <p:nvSpPr>
            <p:cNvPr id="1887" name=""/>
            <p:cNvSpPr/>
            <p:nvPr/>
          </p:nvSpPr>
          <p:spPr>
            <a:xfrm>
              <a:off x="4114800" y="182880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38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71800" y="17524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1066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438280" y="2438280"/>
            <a:ext cx="2286000" cy="1364400"/>
            <a:chOff x="2438280" y="2438280"/>
            <a:chExt cx="2286000" cy="1364400"/>
          </a:xfrm>
        </p:grpSpPr>
        <p:sp>
          <p:nvSpPr>
            <p:cNvPr id="1892" name=""/>
            <p:cNvSpPr/>
            <p:nvPr/>
          </p:nvSpPr>
          <p:spPr>
            <a:xfrm>
              <a:off x="243828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14600" y="312408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428640" y="2438280"/>
              <a:ext cx="12193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09480" y="3733920"/>
            <a:ext cx="2514600" cy="1580400"/>
            <a:chOff x="609480" y="3733920"/>
            <a:chExt cx="2514600" cy="1580400"/>
          </a:xfrm>
        </p:grpSpPr>
        <p:sp>
          <p:nvSpPr>
            <p:cNvPr id="1896" name=""/>
            <p:cNvSpPr/>
            <p:nvPr/>
          </p:nvSpPr>
          <p:spPr>
            <a:xfrm>
              <a:off x="68580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1828800" y="37339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2819520" y="3733920"/>
            <a:ext cx="1371600" cy="1447560"/>
            <a:chOff x="2819520" y="3733920"/>
            <a:chExt cx="1371600" cy="1447560"/>
          </a:xfrm>
        </p:grpSpPr>
        <p:sp>
          <p:nvSpPr>
            <p:cNvPr id="1900" name=""/>
            <p:cNvSpPr/>
            <p:nvPr/>
          </p:nvSpPr>
          <p:spPr>
            <a:xfrm>
              <a:off x="2819520" y="3733920"/>
              <a:ext cx="685800" cy="144756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48120" y="43434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191120" y="3733920"/>
            <a:ext cx="2514600" cy="1580400"/>
            <a:chOff x="4191120" y="3733920"/>
            <a:chExt cx="2514600" cy="1580400"/>
          </a:xfrm>
        </p:grpSpPr>
        <p:sp>
          <p:nvSpPr>
            <p:cNvPr id="1903" name=""/>
            <p:cNvSpPr/>
            <p:nvPr/>
          </p:nvSpPr>
          <p:spPr>
            <a:xfrm>
              <a:off x="441972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434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91120" y="3733920"/>
              <a:ext cx="1371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62320" y="5257800"/>
            <a:ext cx="2743200" cy="1428120"/>
            <a:chOff x="2362320" y="5257800"/>
            <a:chExt cx="2743200" cy="1428120"/>
          </a:xfrm>
        </p:grpSpPr>
        <p:sp>
          <p:nvSpPr>
            <p:cNvPr id="1907" name="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14600" y="57150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3657600" y="5257800"/>
              <a:ext cx="1447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5257800"/>
            <a:ext cx="1295280" cy="1295280"/>
            <a:chOff x="4800600" y="5257800"/>
            <a:chExt cx="1295280" cy="1295280"/>
          </a:xfrm>
        </p:grpSpPr>
        <p:sp>
          <p:nvSpPr>
            <p:cNvPr id="1911" name=""/>
            <p:cNvSpPr/>
            <p:nvPr/>
          </p:nvSpPr>
          <p:spPr>
            <a:xfrm>
              <a:off x="4800600" y="5257800"/>
              <a:ext cx="685800" cy="129528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52880" y="57150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578640" y="5084640"/>
            <a:ext cx="1803240" cy="630360"/>
            <a:chOff x="6578640" y="5084640"/>
            <a:chExt cx="1803240" cy="630360"/>
          </a:xfrm>
        </p:grpSpPr>
        <p:sp>
          <p:nvSpPr>
            <p:cNvPr id="1914" name=""/>
            <p:cNvSpPr/>
            <p:nvPr/>
          </p:nvSpPr>
          <p:spPr>
            <a:xfrm>
              <a:off x="6578640" y="5084640"/>
              <a:ext cx="1295280" cy="630360"/>
            </a:xfrm>
            <a:custGeom>
              <a:avLst/>
              <a:gdLst/>
              <a:ahLst/>
              <a:rect l="l" t="t" r="r" b="b"/>
              <a:pathLst>
                <a:path w="816" h="597">
                  <a:moveTo>
                    <a:pt x="816" y="597"/>
                  </a:moveTo>
                  <a:cubicBezTo>
                    <a:pt x="788" y="513"/>
                    <a:pt x="784" y="186"/>
                    <a:pt x="648" y="93"/>
                  </a:cubicBezTo>
                  <a:cubicBezTo>
                    <a:pt x="512" y="0"/>
                    <a:pt x="135" y="49"/>
                    <a:pt x="0" y="37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38880" y="52578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59400" y="3505320"/>
            <a:ext cx="1612800" cy="838080"/>
            <a:chOff x="4559400" y="3505320"/>
            <a:chExt cx="1612800" cy="838080"/>
          </a:xfrm>
        </p:grpSpPr>
        <p:sp>
          <p:nvSpPr>
            <p:cNvPr id="1917" name=""/>
            <p:cNvSpPr/>
            <p:nvPr/>
          </p:nvSpPr>
          <p:spPr>
            <a:xfrm>
              <a:off x="4559400" y="3505320"/>
              <a:ext cx="1257120" cy="838080"/>
            </a:xfrm>
            <a:custGeom>
              <a:avLst/>
              <a:gdLst/>
              <a:ahLst/>
              <a:rect l="l" t="t" r="r" b="b"/>
              <a:pathLst>
                <a:path w="792" h="624">
                  <a:moveTo>
                    <a:pt x="792" y="624"/>
                  </a:moveTo>
                  <a:cubicBezTo>
                    <a:pt x="768" y="537"/>
                    <a:pt x="780" y="192"/>
                    <a:pt x="648" y="96"/>
                  </a:cubicBezTo>
                  <a:cubicBezTo>
                    <a:pt x="516" y="0"/>
                    <a:pt x="135" y="58"/>
                    <a:pt x="0" y="48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29200" y="36576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6172200" y="2286000"/>
            <a:ext cx="2209680" cy="838080"/>
            <a:chOff x="6172200" y="2286000"/>
            <a:chExt cx="2209680" cy="838080"/>
          </a:xfrm>
        </p:grpSpPr>
        <p:sp>
          <p:nvSpPr>
            <p:cNvPr id="1920" name=""/>
            <p:cNvSpPr/>
            <p:nvPr/>
          </p:nvSpPr>
          <p:spPr>
            <a:xfrm>
              <a:off x="6172200" y="2286000"/>
              <a:ext cx="1854360" cy="838080"/>
            </a:xfrm>
            <a:custGeom>
              <a:avLst/>
              <a:gdLst/>
              <a:ahLst/>
              <a:rect l="l" t="t" r="r" b="b"/>
              <a:pathLst>
                <a:path w="1072" h="576">
                  <a:moveTo>
                    <a:pt x="1072" y="576"/>
                  </a:moveTo>
                  <a:cubicBezTo>
                    <a:pt x="1025" y="496"/>
                    <a:pt x="971" y="192"/>
                    <a:pt x="792" y="96"/>
                  </a:cubicBezTo>
                  <a:cubicBezTo>
                    <a:pt x="613" y="0"/>
                    <a:pt x="16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0040" y="243828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3263760" y="1295280"/>
            <a:ext cx="2430720" cy="507960"/>
            <a:chOff x="3263760" y="1295280"/>
            <a:chExt cx="2430720" cy="507960"/>
          </a:xfrm>
        </p:grpSpPr>
        <p:sp>
          <p:nvSpPr>
            <p:cNvPr id="1923" name=""/>
            <p:cNvSpPr/>
            <p:nvPr/>
          </p:nvSpPr>
          <p:spPr>
            <a:xfrm>
              <a:off x="3263760" y="1389240"/>
              <a:ext cx="1663920" cy="414000"/>
            </a:xfrm>
            <a:custGeom>
              <a:avLst/>
              <a:gdLst/>
              <a:ahLst/>
              <a:rect l="l" t="t" r="r" b="b"/>
              <a:pathLst>
                <a:path w="1048" h="261">
                  <a:moveTo>
                    <a:pt x="1048" y="261"/>
                  </a:moveTo>
                  <a:cubicBezTo>
                    <a:pt x="995" y="221"/>
                    <a:pt x="911" y="42"/>
                    <a:pt x="736" y="21"/>
                  </a:cubicBezTo>
                  <a:cubicBezTo>
                    <a:pt x="561" y="0"/>
                    <a:pt x="153" y="110"/>
                    <a:pt x="0" y="133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72000" y="1295280"/>
              <a:ext cx="112248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6172200" y="5257800"/>
            <a:ext cx="2438280" cy="1135800"/>
            <a:chOff x="6172200" y="5257800"/>
            <a:chExt cx="2438280" cy="1135800"/>
          </a:xfrm>
        </p:grpSpPr>
        <p:sp>
          <p:nvSpPr>
            <p:cNvPr id="1926" name=""/>
            <p:cNvSpPr/>
            <p:nvPr/>
          </p:nvSpPr>
          <p:spPr>
            <a:xfrm>
              <a:off x="6324480" y="571500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00800" y="52578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2514600" y="2324160"/>
            <a:ext cx="1752480" cy="812880"/>
            <a:chOff x="2514600" y="2324160"/>
            <a:chExt cx="1752480" cy="812880"/>
          </a:xfrm>
        </p:grpSpPr>
        <p:sp>
          <p:nvSpPr>
            <p:cNvPr id="1930" name=""/>
            <p:cNvSpPr/>
            <p:nvPr/>
          </p:nvSpPr>
          <p:spPr>
            <a:xfrm>
              <a:off x="3230640" y="2324160"/>
              <a:ext cx="1036440" cy="812880"/>
            </a:xfrm>
            <a:custGeom>
              <a:avLst/>
              <a:gdLst/>
              <a:ahLst/>
              <a:rect l="l" t="t" r="r" b="b"/>
              <a:pathLst>
                <a:path w="565" h="512">
                  <a:moveTo>
                    <a:pt x="5" y="512"/>
                  </a:moveTo>
                  <a:cubicBezTo>
                    <a:pt x="20" y="451"/>
                    <a:pt x="0" y="229"/>
                    <a:pt x="93" y="144"/>
                  </a:cubicBezTo>
                  <a:cubicBezTo>
                    <a:pt x="186" y="59"/>
                    <a:pt x="467" y="30"/>
                    <a:pt x="565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14600" y="236232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5715000" y="2438280"/>
            <a:ext cx="2895480" cy="1364400"/>
            <a:chOff x="5715000" y="2438280"/>
            <a:chExt cx="2895480" cy="1364400"/>
          </a:xfrm>
        </p:grpSpPr>
        <p:sp>
          <p:nvSpPr>
            <p:cNvPr id="1933" name=""/>
            <p:cNvSpPr/>
            <p:nvPr/>
          </p:nvSpPr>
          <p:spPr>
            <a:xfrm>
              <a:off x="6324480" y="312408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485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15000" y="2438280"/>
              <a:ext cx="19810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-driven syntax analyz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1800" y="3505320"/>
            <a:ext cx="29718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5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-driven syntax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1480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308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11880" y="2209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4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81080" y="175248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781680" y="3505320"/>
            <a:ext cx="167652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35053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L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24280" y="2209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78160" y="2209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91320" y="2209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7652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11480" y="2209680"/>
            <a:ext cx="106668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343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3915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934320" y="41911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8487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3915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432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8487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3915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93432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487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915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32004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295280" y="365760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95280" y="48769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54100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95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00000">
            <a:off x="1394640" y="4242600"/>
            <a:ext cx="5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2743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28800" y="3429000"/>
            <a:ext cx="1143000" cy="69840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943600" y="41911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487692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55627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quence of rules used in the leftmos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on of the input string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LL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f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3520" y="1981080"/>
            <a:ext cx="86104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pushdown is not empt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pushdown top and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p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L-table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versal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on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down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9480" y="3505320"/>
            <a:ext cx="2210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1219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85800" y="16477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85800" y="1600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3124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80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4479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666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6765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144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362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6668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971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057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2860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288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288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219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4382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481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718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523880"/>
                <a:tab algn="l" pos="2768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1055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1028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63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8120" y="1676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19810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8120" y="6248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4812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3911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4812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4812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81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481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4812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495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48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34290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14800" y="4114800"/>
            <a:ext cx="45720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49528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485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76720" y="6095880"/>
            <a:ext cx="121896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9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81480" y="2057400"/>
            <a:ext cx="0" cy="38862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143000"/>
            <a:ext cx="79246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 is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 more than on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r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6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657600"/>
            <a:ext cx="2743200" cy="1418040"/>
            <a:chOff x="304920" y="3657600"/>
            <a:chExt cx="2743200" cy="1418040"/>
          </a:xfrm>
        </p:grpSpPr>
        <p:sp>
          <p:nvSpPr>
            <p:cNvPr id="216" name=""/>
            <p:cNvSpPr/>
            <p:nvPr/>
          </p:nvSpPr>
          <p:spPr>
            <a:xfrm>
              <a:off x="11433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8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70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6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71600" y="419112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9112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657600"/>
            <a:ext cx="2743200" cy="1418040"/>
            <a:chOff x="2895480" y="3657600"/>
            <a:chExt cx="2743200" cy="1418040"/>
          </a:xfrm>
        </p:grpSpPr>
        <p:sp>
          <p:nvSpPr>
            <p:cNvPr id="230" name=""/>
            <p:cNvSpPr/>
            <p:nvPr/>
          </p:nvSpPr>
          <p:spPr>
            <a:xfrm>
              <a:off x="37335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1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733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2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88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4191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419360" y="419112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38080" y="5029200"/>
            <a:ext cx="2438280" cy="1143000"/>
            <a:chOff x="838080" y="5029200"/>
            <a:chExt cx="2438280" cy="1143000"/>
          </a:xfrm>
        </p:grpSpPr>
        <p:sp>
          <p:nvSpPr>
            <p:cNvPr id="244" name=""/>
            <p:cNvSpPr/>
            <p:nvPr/>
          </p:nvSpPr>
          <p:spPr>
            <a:xfrm>
              <a:off x="838080" y="5715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160" y="571500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160" y="60199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160" y="502920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429000" y="5029200"/>
            <a:ext cx="2437920" cy="1143000"/>
            <a:chOff x="3429000" y="5029200"/>
            <a:chExt cx="2437920" cy="1143000"/>
          </a:xfrm>
        </p:grpSpPr>
        <p:sp>
          <p:nvSpPr>
            <p:cNvPr id="257" name=""/>
            <p:cNvSpPr/>
            <p:nvPr/>
          </p:nvSpPr>
          <p:spPr>
            <a:xfrm>
              <a:off x="3429000" y="5715000"/>
              <a:ext cx="45684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584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79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04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1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79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04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1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029200"/>
              <a:ext cx="159984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3200400"/>
            <a:ext cx="2514600" cy="2374920"/>
            <a:chOff x="5867280" y="3200400"/>
            <a:chExt cx="2514600" cy="2374920"/>
          </a:xfrm>
        </p:grpSpPr>
        <p:sp>
          <p:nvSpPr>
            <p:cNvPr id="270" name=""/>
            <p:cNvSpPr/>
            <p:nvPr/>
          </p:nvSpPr>
          <p:spPr>
            <a:xfrm>
              <a:off x="6248520" y="3200400"/>
              <a:ext cx="160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370512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2468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508968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19112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4572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419112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4648320"/>
              <a:ext cx="19810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191120"/>
              <a:ext cx="19810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64832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676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224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0920" y="3962520"/>
            <a:ext cx="2057760" cy="1371600"/>
            <a:chOff x="3580920" y="3962520"/>
            <a:chExt cx="2057760" cy="1371600"/>
          </a:xfrm>
        </p:grpSpPr>
        <p:sp>
          <p:nvSpPr>
            <p:cNvPr id="286" name=""/>
            <p:cNvSpPr/>
            <p:nvPr/>
          </p:nvSpPr>
          <p:spPr>
            <a:xfrm flipV="1">
              <a:off x="3581280" y="39625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3580920" y="396252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181480"/>
            <a:ext cx="2743200" cy="1598760"/>
            <a:chOff x="6172200" y="5181480"/>
            <a:chExt cx="2743200" cy="1598760"/>
          </a:xfrm>
        </p:grpSpPr>
        <p:sp>
          <p:nvSpPr>
            <p:cNvPr id="289" name=""/>
            <p:cNvSpPr/>
            <p:nvPr/>
          </p:nvSpPr>
          <p:spPr>
            <a:xfrm>
              <a:off x="6172200" y="5715000"/>
              <a:ext cx="2743200" cy="1065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ly rul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51814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6" name=""/>
          <p:cNvGrpSpPr/>
          <p:nvPr/>
        </p:nvGrpSpPr>
        <p:grpSpPr>
          <a:xfrm>
            <a:off x="4038480" y="3301920"/>
            <a:ext cx="3202200" cy="2260800"/>
            <a:chOff x="4038480" y="3301920"/>
            <a:chExt cx="3202200" cy="2260800"/>
          </a:xfrm>
        </p:grpSpPr>
        <p:sp>
          <p:nvSpPr>
            <p:cNvPr id="2047" name=""/>
            <p:cNvSpPr/>
            <p:nvPr/>
          </p:nvSpPr>
          <p:spPr>
            <a:xfrm>
              <a:off x="4038480" y="3301920"/>
              <a:ext cx="3200400" cy="1803600"/>
            </a:xfrm>
            <a:custGeom>
              <a:avLst/>
              <a:gdLst/>
              <a:ahLst/>
              <a:rect l="l" t="t" r="r" b="b"/>
              <a:pathLst>
                <a:path w="2016" h="1136">
                  <a:moveTo>
                    <a:pt x="2016" y="1136"/>
                  </a:moveTo>
                  <a:lnTo>
                    <a:pt x="816" y="1136"/>
                  </a:lnTo>
                  <a:lnTo>
                    <a:pt x="0" y="176"/>
                  </a:lnTo>
                  <a:lnTo>
                    <a:pt x="800" y="0"/>
                  </a:lnTo>
                  <a:lnTo>
                    <a:pt x="2016" y="113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67280" y="51055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81680" y="5105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244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1680" y="5410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rro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90720" y="2133720"/>
            <a:ext cx="4487760" cy="2971800"/>
          </a:xfrm>
          <a:custGeom>
            <a:avLst/>
            <a:gdLst/>
            <a:ahLst/>
            <a:rect l="l" t="t" r="r" b="b"/>
            <a:pathLst>
              <a:path w="2827" h="1872">
                <a:moveTo>
                  <a:pt x="2264" y="912"/>
                </a:moveTo>
                <a:lnTo>
                  <a:pt x="1584" y="904"/>
                </a:lnTo>
                <a:lnTo>
                  <a:pt x="880" y="1872"/>
                </a:lnTo>
                <a:lnTo>
                  <a:pt x="17" y="1872"/>
                </a:lnTo>
                <a:lnTo>
                  <a:pt x="0" y="1857"/>
                </a:lnTo>
                <a:lnTo>
                  <a:pt x="1584" y="0"/>
                </a:lnTo>
                <a:lnTo>
                  <a:pt x="1920" y="0"/>
                </a:lnTo>
                <a:lnTo>
                  <a:pt x="2680" y="672"/>
                </a:lnTo>
                <a:cubicBezTo>
                  <a:pt x="2827" y="866"/>
                  <a:pt x="2777" y="887"/>
                  <a:pt x="2792" y="952"/>
                </a:cubicBezTo>
                <a:cubicBezTo>
                  <a:pt x="2800" y="1013"/>
                  <a:pt x="2763" y="1036"/>
                  <a:pt x="2728" y="1040"/>
                </a:cubicBezTo>
                <a:cubicBezTo>
                  <a:pt x="2693" y="1044"/>
                  <a:pt x="2609" y="957"/>
                  <a:pt x="2584" y="976"/>
                </a:cubicBezTo>
                <a:cubicBezTo>
                  <a:pt x="2559" y="995"/>
                  <a:pt x="2604" y="1121"/>
                  <a:pt x="2576" y="1152"/>
                </a:cubicBezTo>
                <a:cubicBezTo>
                  <a:pt x="2548" y="1183"/>
                  <a:pt x="2468" y="1200"/>
                  <a:pt x="2416" y="1160"/>
                </a:cubicBezTo>
                <a:cubicBezTo>
                  <a:pt x="2364" y="1120"/>
                  <a:pt x="2296" y="964"/>
                  <a:pt x="2264" y="912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505320" y="1600200"/>
            <a:ext cx="53316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5320" y="3048120"/>
            <a:ext cx="53316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90720" y="510552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5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0948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62320" y="5105520"/>
            <a:ext cx="53316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28600" y="5334120"/>
            <a:ext cx="3200040" cy="1190880"/>
            <a:chOff x="228600" y="5334120"/>
            <a:chExt cx="3200040" cy="1190880"/>
          </a:xfrm>
        </p:grpSpPr>
        <p:sp>
          <p:nvSpPr>
            <p:cNvPr id="2066" name=""/>
            <p:cNvSpPr/>
            <p:nvPr/>
          </p:nvSpPr>
          <p:spPr>
            <a:xfrm flipH="1">
              <a:off x="2148120" y="5334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28600" y="5943600"/>
              <a:ext cx="3200040" cy="58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 flipH="1">
            <a:off x="2742480" y="3352680"/>
            <a:ext cx="1066680" cy="18288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876920" y="1219320"/>
            <a:ext cx="3581280" cy="149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o kinds o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le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2819520" y="4038480"/>
            <a:ext cx="3049560" cy="1524240"/>
            <a:chOff x="2819520" y="4038480"/>
            <a:chExt cx="3049560" cy="1524240"/>
          </a:xfrm>
        </p:grpSpPr>
        <p:sp>
          <p:nvSpPr>
            <p:cNvPr id="2072" name=""/>
            <p:cNvSpPr/>
            <p:nvPr/>
          </p:nvSpPr>
          <p:spPr>
            <a:xfrm>
              <a:off x="5334120" y="510552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19520" y="4800600"/>
              <a:ext cx="266688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2680" y="4038480"/>
              <a:ext cx="1524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733920" y="5410080"/>
            <a:ext cx="1904760" cy="581400"/>
            <a:chOff x="3733920" y="5410080"/>
            <a:chExt cx="1904760" cy="581400"/>
          </a:xfrm>
        </p:grpSpPr>
        <p:sp>
          <p:nvSpPr>
            <p:cNvPr id="2076" name=""/>
            <p:cNvSpPr/>
            <p:nvPr/>
          </p:nvSpPr>
          <p:spPr>
            <a:xfrm flipH="1">
              <a:off x="4876920" y="5562720"/>
              <a:ext cx="761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33920" y="54100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02920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Panic-Mode (Hartmann) Error Recove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28800" y="5402160"/>
            <a:ext cx="53352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1752120" y="56386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2280" y="6019920"/>
            <a:ext cx="25146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ro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1219320"/>
            <a:ext cx="3657600" cy="2257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8480" y="3657600"/>
            <a:ext cx="4343400" cy="313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inue with parsing 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9" name=""/>
          <p:cNvGrpSpPr/>
          <p:nvPr/>
        </p:nvGrpSpPr>
        <p:grpSpPr>
          <a:xfrm>
            <a:off x="2768760" y="2311560"/>
            <a:ext cx="4635360" cy="3555720"/>
            <a:chOff x="2768760" y="2311560"/>
            <a:chExt cx="4635360" cy="3555720"/>
          </a:xfrm>
        </p:grpSpPr>
        <p:sp>
          <p:nvSpPr>
            <p:cNvPr id="2120" name=""/>
            <p:cNvSpPr/>
            <p:nvPr/>
          </p:nvSpPr>
          <p:spPr>
            <a:xfrm>
              <a:off x="2768760" y="2311560"/>
              <a:ext cx="4635360" cy="3111480"/>
            </a:xfrm>
            <a:custGeom>
              <a:avLst/>
              <a:gdLst/>
              <a:ahLst/>
              <a:rect l="l" t="t" r="r" b="b"/>
              <a:pathLst>
                <a:path w="2920" h="1960">
                  <a:moveTo>
                    <a:pt x="800" y="24"/>
                  </a:moveTo>
                  <a:lnTo>
                    <a:pt x="888" y="0"/>
                  </a:lnTo>
                  <a:lnTo>
                    <a:pt x="2920" y="1952"/>
                  </a:lnTo>
                  <a:lnTo>
                    <a:pt x="568" y="1960"/>
                  </a:lnTo>
                  <a:lnTo>
                    <a:pt x="0" y="1536"/>
                  </a:lnTo>
                  <a:lnTo>
                    <a:pt x="320" y="1536"/>
                  </a:lnTo>
                  <a:lnTo>
                    <a:pt x="320" y="1240"/>
                  </a:lnTo>
                  <a:lnTo>
                    <a:pt x="240" y="976"/>
                  </a:lnTo>
                  <a:lnTo>
                    <a:pt x="568" y="976"/>
                  </a:lnTo>
                  <a:lnTo>
                    <a:pt x="568" y="656"/>
                  </a:lnTo>
                  <a:cubicBezTo>
                    <a:pt x="556" y="559"/>
                    <a:pt x="457" y="436"/>
                    <a:pt x="496" y="392"/>
                  </a:cubicBezTo>
                  <a:lnTo>
                    <a:pt x="800" y="392"/>
                  </a:lnTo>
                  <a:lnTo>
                    <a:pt x="800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91120" y="5410080"/>
              <a:ext cx="3200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48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055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48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1055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5627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199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627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199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1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304920" y="5410080"/>
            <a:ext cx="2437920" cy="1138320"/>
            <a:chOff x="304920" y="5410080"/>
            <a:chExt cx="2437920" cy="1138320"/>
          </a:xfrm>
        </p:grpSpPr>
        <p:sp>
          <p:nvSpPr>
            <p:cNvPr id="2147" name=""/>
            <p:cNvSpPr/>
            <p:nvPr/>
          </p:nvSpPr>
          <p:spPr>
            <a:xfrm>
              <a:off x="1848960" y="5410080"/>
              <a:ext cx="56880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767240" y="5646600"/>
              <a:ext cx="4064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4920" y="6027840"/>
              <a:ext cx="243792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209680" y="5029200"/>
            <a:ext cx="1982880" cy="956160"/>
            <a:chOff x="2209680" y="5029200"/>
            <a:chExt cx="1982880" cy="956160"/>
          </a:xfrm>
        </p:grpSpPr>
        <p:sp>
          <p:nvSpPr>
            <p:cNvPr id="2175" name=""/>
            <p:cNvSpPr/>
            <p:nvPr/>
          </p:nvSpPr>
          <p:spPr>
            <a:xfrm>
              <a:off x="3657600" y="541008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9680" y="5029200"/>
              <a:ext cx="152424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9680" y="5257800"/>
              <a:ext cx="152244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179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3848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1" name=""/>
          <p:cNvGrpSpPr/>
          <p:nvPr/>
        </p:nvGrpSpPr>
        <p:grpSpPr>
          <a:xfrm>
            <a:off x="3551400" y="2311560"/>
            <a:ext cx="3852720" cy="3555720"/>
            <a:chOff x="3551400" y="2311560"/>
            <a:chExt cx="3852720" cy="3555720"/>
          </a:xfrm>
        </p:grpSpPr>
        <p:sp>
          <p:nvSpPr>
            <p:cNvPr id="2182" name=""/>
            <p:cNvSpPr/>
            <p:nvPr/>
          </p:nvSpPr>
          <p:spPr>
            <a:xfrm>
              <a:off x="3551400" y="2311560"/>
              <a:ext cx="3852720" cy="3098520"/>
            </a:xfrm>
            <a:custGeom>
              <a:avLst/>
              <a:gdLst/>
              <a:ahLst/>
              <a:rect l="l" t="t" r="r" b="b"/>
              <a:pathLst>
                <a:path w="2427" h="1952">
                  <a:moveTo>
                    <a:pt x="307" y="24"/>
                  </a:moveTo>
                  <a:lnTo>
                    <a:pt x="395" y="0"/>
                  </a:lnTo>
                  <a:lnTo>
                    <a:pt x="2427" y="1952"/>
                  </a:lnTo>
                  <a:lnTo>
                    <a:pt x="1275" y="1952"/>
                  </a:lnTo>
                  <a:lnTo>
                    <a:pt x="291" y="944"/>
                  </a:lnTo>
                  <a:cubicBezTo>
                    <a:pt x="79" y="684"/>
                    <a:pt x="0" y="484"/>
                    <a:pt x="3" y="392"/>
                  </a:cubicBezTo>
                  <a:lnTo>
                    <a:pt x="307" y="392"/>
                  </a:lnTo>
                  <a:lnTo>
                    <a:pt x="307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19920" y="5410080"/>
              <a:ext cx="1371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2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380880" y="5402160"/>
            <a:ext cx="2286000" cy="1077480"/>
            <a:chOff x="380880" y="5402160"/>
            <a:chExt cx="2286000" cy="1077480"/>
          </a:xfrm>
        </p:grpSpPr>
        <p:sp>
          <p:nvSpPr>
            <p:cNvPr id="2201" name=""/>
            <p:cNvSpPr/>
            <p:nvPr/>
          </p:nvSpPr>
          <p:spPr>
            <a:xfrm>
              <a:off x="1828800" y="5402160"/>
              <a:ext cx="53352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52120" y="563868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0880" y="6019920"/>
              <a:ext cx="2286000" cy="45972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209680" y="5029200"/>
            <a:ext cx="3848400" cy="838080"/>
            <a:chOff x="2209680" y="5029200"/>
            <a:chExt cx="3848400" cy="838080"/>
          </a:xfrm>
        </p:grpSpPr>
        <p:sp>
          <p:nvSpPr>
            <p:cNvPr id="2229" name=""/>
            <p:cNvSpPr/>
            <p:nvPr/>
          </p:nvSpPr>
          <p:spPr>
            <a:xfrm>
              <a:off x="5562720" y="5410080"/>
              <a:ext cx="4953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09680" y="5029200"/>
              <a:ext cx="350532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514600" y="5105520"/>
              <a:ext cx="2925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233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91320" y="5867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for Predictive Parser: Variant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3520" y="213372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5029200" y="2362320"/>
            <a:ext cx="4114800" cy="3352680"/>
            <a:chOff x="5029200" y="2362320"/>
            <a:chExt cx="4114800" cy="3352680"/>
          </a:xfrm>
        </p:grpSpPr>
        <p:sp>
          <p:nvSpPr>
            <p:cNvPr id="224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9200" y="2362320"/>
              <a:ext cx="30492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657600" y="5105520"/>
            <a:ext cx="5410080" cy="1648080"/>
            <a:chOff x="3657600" y="5105520"/>
            <a:chExt cx="5410080" cy="1648080"/>
          </a:xfrm>
        </p:grpSpPr>
        <p:sp>
          <p:nvSpPr>
            <p:cNvPr id="2257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29200" y="594360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571640" y="57150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617220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7200" y="5105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408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954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526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114800" y="2362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86200" y="29718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904760" y="3657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590920" y="3657600"/>
            <a:ext cx="1218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124080" y="4343400"/>
            <a:ext cx="1067040" cy="83808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048120" y="5562720"/>
            <a:ext cx="220968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Predictive Parser: Varia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3520" y="2133720"/>
            <a:ext cx="82296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me according t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"/>
          <p:cNvGrpSpPr/>
          <p:nvPr/>
        </p:nvGrpSpPr>
        <p:grpSpPr>
          <a:xfrm>
            <a:off x="3048120" y="2362320"/>
            <a:ext cx="6095880" cy="3352680"/>
            <a:chOff x="3048120" y="2362320"/>
            <a:chExt cx="6095880" cy="3352680"/>
          </a:xfrm>
        </p:grpSpPr>
        <p:sp>
          <p:nvSpPr>
            <p:cNvPr id="2288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720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91120" y="5105520"/>
              <a:ext cx="3045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2362320"/>
              <a:ext cx="45720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81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886200" y="487656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962520" y="4114440"/>
              <a:ext cx="30456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9720" y="4191120"/>
              <a:ext cx="0" cy="9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4114800"/>
              <a:ext cx="22860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3848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00600" y="4800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657600" y="5105520"/>
            <a:ext cx="5334120" cy="1571760"/>
            <a:chOff x="3657600" y="5105520"/>
            <a:chExt cx="5334120" cy="1571760"/>
          </a:xfrm>
        </p:grpSpPr>
        <p:sp>
          <p:nvSpPr>
            <p:cNvPr id="2314" name=""/>
            <p:cNvSpPr/>
            <p:nvPr/>
          </p:nvSpPr>
          <p:spPr>
            <a:xfrm>
              <a:off x="365760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52880" y="609588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657600" y="60958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57200" y="51055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743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4191120" y="23623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88620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1905120" y="350532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590560" y="3505320"/>
            <a:ext cx="9903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581280" y="35053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971800" y="3886200"/>
            <a:ext cx="914400" cy="12193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048120" y="5562720"/>
            <a:ext cx="68580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guage (SPL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4300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00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876920"/>
            <a:ext cx="3962520" cy="1677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ad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 := add(i, 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write 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181480"/>
            <a:ext cx="221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P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P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L 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14300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209680"/>
            <a:ext cx="853416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n 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029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5105520"/>
            <a:ext cx="1600200" cy="11430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15000" y="4648320"/>
            <a:ext cx="2819520" cy="581400"/>
            <a:chOff x="5715000" y="4648320"/>
            <a:chExt cx="2819520" cy="581400"/>
          </a:xfrm>
        </p:grpSpPr>
        <p:sp>
          <p:nvSpPr>
            <p:cNvPr id="309" name=""/>
            <p:cNvSpPr/>
            <p:nvPr/>
          </p:nvSpPr>
          <p:spPr>
            <a:xfrm>
              <a:off x="5715000" y="49528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4832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4800600"/>
            <a:ext cx="2590920" cy="1189080"/>
            <a:chOff x="4038480" y="4800600"/>
            <a:chExt cx="2590920" cy="1189080"/>
          </a:xfrm>
        </p:grpSpPr>
        <p:sp>
          <p:nvSpPr>
            <p:cNvPr id="312" name=""/>
            <p:cNvSpPr/>
            <p:nvPr/>
          </p:nvSpPr>
          <p:spPr>
            <a:xfrm>
              <a:off x="4724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4800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800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52578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525780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0080" y="525780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99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5029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52880" y="6172200"/>
            <a:ext cx="2438640" cy="553680"/>
            <a:chOff x="4952880" y="6172200"/>
            <a:chExt cx="2438640" cy="553680"/>
          </a:xfrm>
        </p:grpSpPr>
        <p:sp>
          <p:nvSpPr>
            <p:cNvPr id="326" name=""/>
            <p:cNvSpPr/>
            <p:nvPr/>
          </p:nvSpPr>
          <p:spPr>
            <a:xfrm>
              <a:off x="4952880" y="647712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7800" y="6172200"/>
              <a:ext cx="21337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43400" y="5943240"/>
            <a:ext cx="1447920" cy="916560"/>
            <a:chOff x="4343400" y="5943240"/>
            <a:chExt cx="1447920" cy="916560"/>
          </a:xfrm>
        </p:grpSpPr>
        <p:sp>
          <p:nvSpPr>
            <p:cNvPr id="329" name=""/>
            <p:cNvSpPr/>
            <p:nvPr/>
          </p:nvSpPr>
          <p:spPr>
            <a:xfrm>
              <a:off x="4343400" y="6278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62485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343400" y="5942880"/>
              <a:ext cx="1219320" cy="304920"/>
            </a:xfrm>
            <a:custGeom>
              <a:avLst/>
              <a:gdLst>
                <a:gd name="textAreaLeft" fmla="*/ 309600 w 1219320"/>
                <a:gd name="textAreaRight" fmla="*/ 909720 w 1219320"/>
                <a:gd name="textAreaTop" fmla="*/ 77400 h 304920"/>
                <a:gd name="textAreaBottom" fmla="*/ 2275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79" y="21600"/>
                  </a:lnTo>
                  <a:lnTo>
                    <a:pt x="6721" y="216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for SP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1430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114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00" y="5359320"/>
            <a:ext cx="8153280" cy="916920"/>
            <a:chOff x="673200" y="5359320"/>
            <a:chExt cx="8153280" cy="916920"/>
          </a:xfrm>
        </p:grpSpPr>
        <p:sp>
          <p:nvSpPr>
            <p:cNvPr id="338" name=""/>
            <p:cNvSpPr/>
            <p:nvPr/>
          </p:nvSpPr>
          <p:spPr>
            <a:xfrm>
              <a:off x="749160" y="62737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00" y="5359320"/>
              <a:ext cx="815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85800" y="6264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143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85800" y="2362320"/>
            <a:ext cx="8001000" cy="916920"/>
            <a:chOff x="685800" y="2362320"/>
            <a:chExt cx="8001000" cy="916920"/>
          </a:xfrm>
        </p:grpSpPr>
        <p:sp>
          <p:nvSpPr>
            <p:cNvPr id="343" name=""/>
            <p:cNvSpPr/>
            <p:nvPr/>
          </p:nvSpPr>
          <p:spPr>
            <a:xfrm>
              <a:off x="685800" y="236232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32767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85800" y="3276720"/>
            <a:ext cx="8077320" cy="916920"/>
            <a:chOff x="685800" y="3276720"/>
            <a:chExt cx="8077320" cy="916920"/>
          </a:xfrm>
        </p:grpSpPr>
        <p:sp>
          <p:nvSpPr>
            <p:cNvPr id="346" name=""/>
            <p:cNvSpPr/>
            <p:nvPr/>
          </p:nvSpPr>
          <p:spPr>
            <a:xfrm>
              <a:off x="685800" y="3276720"/>
              <a:ext cx="807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1911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4191120"/>
            <a:ext cx="7848720" cy="1191240"/>
            <a:chOff x="685800" y="4191120"/>
            <a:chExt cx="7848720" cy="1191240"/>
          </a:xfrm>
        </p:grpSpPr>
        <p:sp>
          <p:nvSpPr>
            <p:cNvPr id="349" name=""/>
            <p:cNvSpPr/>
            <p:nvPr/>
          </p:nvSpPr>
          <p:spPr>
            <a:xfrm>
              <a:off x="685800" y="419112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" y="53593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354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752480"/>
            <a:ext cx="5257800" cy="1391400"/>
            <a:chOff x="3581280" y="1752480"/>
            <a:chExt cx="5257800" cy="1391400"/>
          </a:xfrm>
        </p:grpSpPr>
        <p:sp>
          <p:nvSpPr>
            <p:cNvPr id="369" name=""/>
            <p:cNvSpPr/>
            <p:nvPr/>
          </p:nvSpPr>
          <p:spPr>
            <a:xfrm>
              <a:off x="4572000" y="1752480"/>
              <a:ext cx="4267080" cy="139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is blank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3200400"/>
            <a:ext cx="8686800" cy="3505320"/>
            <a:chOff x="457200" y="3200400"/>
            <a:chExt cx="8686800" cy="3505320"/>
          </a:xfrm>
        </p:grpSpPr>
        <p:sp>
          <p:nvSpPr>
            <p:cNvPr id="374" name=""/>
            <p:cNvSpPr/>
            <p:nvPr/>
          </p:nvSpPr>
          <p:spPr>
            <a:xfrm>
              <a:off x="6934320" y="3581280"/>
              <a:ext cx="220968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begin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en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)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38480" y="3200400"/>
              <a:ext cx="49532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n  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733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4114800"/>
              <a:ext cx="144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prog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1911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60199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581280"/>
              <a:ext cx="32004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&lt;prog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begin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: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9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0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32004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 table for SP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7339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320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4800" y="3657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1028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9154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6705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14440" y="3276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600200" y="4114800"/>
            <a:ext cx="2666880" cy="858240"/>
            <a:chOff x="1600200" y="4114800"/>
            <a:chExt cx="2666880" cy="858240"/>
          </a:xfrm>
        </p:grpSpPr>
        <p:sp>
          <p:nvSpPr>
            <p:cNvPr id="398" name=""/>
            <p:cNvSpPr/>
            <p:nvPr/>
          </p:nvSpPr>
          <p:spPr>
            <a:xfrm>
              <a:off x="2286000" y="4343400"/>
              <a:ext cx="19810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&lt;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7040" y="4724280"/>
              <a:ext cx="3049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886200" y="4114800"/>
              <a:ext cx="38088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00200" y="4876920"/>
            <a:ext cx="2666880" cy="489960"/>
            <a:chOff x="1600200" y="4876920"/>
            <a:chExt cx="2666880" cy="489960"/>
          </a:xfrm>
        </p:grpSpPr>
        <p:sp>
          <p:nvSpPr>
            <p:cNvPr id="403" name=""/>
            <p:cNvSpPr/>
            <p:nvPr/>
          </p:nvSpPr>
          <p:spPr>
            <a:xfrm>
              <a:off x="2286000" y="4876920"/>
              <a:ext cx="19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057400" y="5105520"/>
              <a:ext cx="3808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962520" y="5181480"/>
              <a:ext cx="304560" cy="763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00200" y="5486400"/>
            <a:ext cx="2743200" cy="914400"/>
            <a:chOff x="1600200" y="5486400"/>
            <a:chExt cx="2743200" cy="914400"/>
          </a:xfrm>
        </p:grpSpPr>
        <p:sp>
          <p:nvSpPr>
            <p:cNvPr id="408" name=""/>
            <p:cNvSpPr/>
            <p:nvPr/>
          </p:nvSpPr>
          <p:spPr>
            <a:xfrm>
              <a:off x="2286000" y="54864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5867280"/>
              <a:ext cx="304560" cy="5335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3:27Z</dcterms:modified>
  <cp:revision>268</cp:revision>
  <dc:subject/>
  <dc:title>Top-Down Parsing</dc:title>
</cp:coreProperties>
</file>